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127.png" ContentType="image/png"/>
  <Override PartName="/ppt/media/image1.png" ContentType="image/png"/>
  <Override PartName="/ppt/media/image153.png" ContentType="image/png"/>
  <Override PartName="/ppt/media/image39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53.png" ContentType="image/png"/>
  <Override PartName="/ppt/media/image128.png" ContentType="image/png"/>
  <Override PartName="/ppt/media/image129.png" ContentType="image/png"/>
  <Override PartName="/ppt/media/image32.png" ContentType="image/png"/>
  <Override PartName="/ppt/media/image133.png" ContentType="image/png"/>
  <Override PartName="/ppt/media/image160.png" ContentType="image/png"/>
  <Override PartName="/ppt/media/image161.png" ContentType="image/png"/>
  <Override PartName="/ppt/media/image150.png" ContentType="image/png"/>
  <Override PartName="/ppt/media/image162.png" ContentType="image/png"/>
  <Override PartName="/ppt/media/image109.png" ContentType="image/png"/>
  <Override PartName="/ppt/media/image151.png" ContentType="image/png"/>
  <Override PartName="/ppt/media/image40.png" ContentType="image/png"/>
  <Override PartName="/ppt/media/image137.png" ContentType="image/png"/>
  <Override PartName="/ppt/media/image163.png" ContentType="image/png"/>
  <Override PartName="/ppt/media/image152.png" ContentType="image/png"/>
  <Override PartName="/ppt/media/image41.png" ContentType="image/png"/>
  <Override PartName="/ppt/media/image138.png" ContentType="image/png"/>
  <Override PartName="/ppt/media/image164.png" ContentType="image/png"/>
  <Override PartName="/ppt/media/image42.png" ContentType="image/png"/>
  <Override PartName="/ppt/media/image139.png" ContentType="image/png"/>
  <Override PartName="/ppt/media/image165.png" ContentType="image/png"/>
  <Override PartName="/ppt/media/image43.png" ContentType="image/png"/>
  <Override PartName="/ppt/media/image166.png" ContentType="image/png"/>
  <Override PartName="/ppt/media/image44.png" ContentType="image/png"/>
  <Override PartName="/ppt/media/image130.png" ContentType="image/png"/>
  <Override PartName="/ppt/media/image167.png" ContentType="image/png"/>
  <Override PartName="/ppt/media/image45.png" ContentType="image/png"/>
  <Override PartName="/ppt/media/image131.png" ContentType="image/png"/>
  <Override PartName="/ppt/media/image168.png" ContentType="image/png"/>
  <Override PartName="/ppt/media/image46.png" ContentType="image/png"/>
  <Override PartName="/ppt/media/image132.png" ContentType="image/png"/>
  <Override PartName="/ppt/media/image169.png" ContentType="image/png"/>
  <Override PartName="/ppt/media/image134.png" ContentType="image/png"/>
  <Override PartName="/ppt/media/image146.png" ContentType="image/png"/>
  <Override PartName="/ppt/media/image145.png" ContentType="image/png"/>
  <Override PartName="/ppt/media/image144.png" ContentType="image/png"/>
  <Override PartName="/ppt/media/image143.png" ContentType="image/png"/>
  <Override PartName="/ppt/media/image56.png" ContentType="image/png"/>
  <Override PartName="/ppt/media/image142.png" ContentType="image/png"/>
  <Override PartName="/ppt/media/image55.png" ContentType="image/png"/>
  <Override PartName="/ppt/media/image141.png" ContentType="image/png"/>
  <Override PartName="/ppt/media/image54.png" ContentType="image/png"/>
  <Override PartName="/ppt/media/image140.png" ContentType="image/png"/>
  <Override PartName="/ppt/media/image100.png" ContentType="image/png"/>
  <Override PartName="/ppt/media/image49.png" ContentType="image/png"/>
  <Override PartName="/ppt/media/image136.png" ContentType="image/png"/>
  <Override PartName="/ppt/media/image135.png" ContentType="image/png"/>
  <Override PartName="/ppt/media/image37.png" ContentType="image/png"/>
  <Override PartName="/ppt/media/image62.png" ContentType="image/png"/>
  <Override PartName="/ppt/media/image159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1.png" ContentType="image/png"/>
  <Override PartName="/ppt/media/image158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1.png" ContentType="image/png"/>
  <Override PartName="/ppt/media/image9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60.png" ContentType="image/png"/>
  <Override PartName="/ppt/media/image157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34.png" ContentType="image/png"/>
  <Override PartName="/ppt/media/image156.png" ContentType="image/png"/>
  <Override PartName="/ppt/media/image4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33.png" ContentType="image/png"/>
  <Override PartName="/ppt/media/image155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154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presProps.xml" ContentType="application/vnd.openxmlformats-officedocument.presentationml.presPro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13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5345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png"/><Relationship Id="rId3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image" Target="../media/image118.png"/><Relationship Id="rId4" Type="http://schemas.openxmlformats.org/officeDocument/2006/relationships/image" Target="../media/image119.png"/><Relationship Id="rId5" Type="http://schemas.openxmlformats.org/officeDocument/2006/relationships/image" Target="../media/image120.png"/><Relationship Id="rId6" Type="http://schemas.openxmlformats.org/officeDocument/2006/relationships/image" Target="../media/image121.png"/><Relationship Id="rId7" Type="http://schemas.openxmlformats.org/officeDocument/2006/relationships/image" Target="../media/image122.png"/><Relationship Id="rId8" Type="http://schemas.openxmlformats.org/officeDocument/2006/relationships/image" Target="../media/image123.png"/><Relationship Id="rId9" Type="http://schemas.openxmlformats.org/officeDocument/2006/relationships/image" Target="../media/image124.png"/><Relationship Id="rId10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25.png"/><Relationship Id="rId3" Type="http://schemas.openxmlformats.org/officeDocument/2006/relationships/image" Target="../media/image117.png"/><Relationship Id="rId4" Type="http://schemas.openxmlformats.org/officeDocument/2006/relationships/image" Target="../media/image118.png"/><Relationship Id="rId5" Type="http://schemas.openxmlformats.org/officeDocument/2006/relationships/image" Target="../media/image119.png"/><Relationship Id="rId6" Type="http://schemas.openxmlformats.org/officeDocument/2006/relationships/image" Target="../media/image120.png"/><Relationship Id="rId7" Type="http://schemas.openxmlformats.org/officeDocument/2006/relationships/image" Target="../media/image121.png"/><Relationship Id="rId8" Type="http://schemas.openxmlformats.org/officeDocument/2006/relationships/image" Target="../media/image122.png"/><Relationship Id="rId9" Type="http://schemas.openxmlformats.org/officeDocument/2006/relationships/image" Target="../media/image123.png"/><Relationship Id="rId10" Type="http://schemas.openxmlformats.org/officeDocument/2006/relationships/image" Target="../media/image124.png"/><Relationship Id="rId11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27.png"/><Relationship Id="rId3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image" Target="../media/image129.png"/><Relationship Id="rId3" Type="http://schemas.openxmlformats.org/officeDocument/2006/relationships/image" Target="../media/image130.png"/><Relationship Id="rId4" Type="http://schemas.openxmlformats.org/officeDocument/2006/relationships/slideLayout" Target="../slideLayouts/slideLayout2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31.png"/><Relationship Id="rId2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35.png"/><Relationship Id="rId2" Type="http://schemas.openxmlformats.org/officeDocument/2006/relationships/slideLayout" Target="../slideLayouts/slideLayout2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slideLayout" Target="../slideLayouts/slideLayout2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38.png"/><Relationship Id="rId2" Type="http://schemas.openxmlformats.org/officeDocument/2006/relationships/image" Target="../media/image137.png"/><Relationship Id="rId3" Type="http://schemas.openxmlformats.org/officeDocument/2006/relationships/slideLayout" Target="../slideLayouts/slideLayout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39.png"/><Relationship Id="rId2" Type="http://schemas.openxmlformats.org/officeDocument/2006/relationships/image" Target="../media/image140.png"/><Relationship Id="rId3" Type="http://schemas.openxmlformats.org/officeDocument/2006/relationships/slideLayout" Target="../slideLayouts/slideLayout2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41.png"/><Relationship Id="rId2" Type="http://schemas.openxmlformats.org/officeDocument/2006/relationships/image" Target="../media/image142.png"/><Relationship Id="rId3" Type="http://schemas.openxmlformats.org/officeDocument/2006/relationships/image" Target="../media/image143.png"/><Relationship Id="rId4" Type="http://schemas.openxmlformats.org/officeDocument/2006/relationships/image" Target="../media/image144.png"/><Relationship Id="rId5" Type="http://schemas.openxmlformats.org/officeDocument/2006/relationships/image" Target="../media/image145.png"/><Relationship Id="rId6" Type="http://schemas.openxmlformats.org/officeDocument/2006/relationships/slideLayout" Target="../slideLayouts/slideLayout2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46.png"/><Relationship Id="rId2" Type="http://schemas.openxmlformats.org/officeDocument/2006/relationships/image" Target="../media/image147.png"/><Relationship Id="rId3" Type="http://schemas.openxmlformats.org/officeDocument/2006/relationships/slideLayout" Target="../slideLayouts/slideLayout2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48.png"/><Relationship Id="rId2" Type="http://schemas.openxmlformats.org/officeDocument/2006/relationships/image" Target="../media/image149.png"/><Relationship Id="rId3" Type="http://schemas.openxmlformats.org/officeDocument/2006/relationships/slideLayout" Target="../slideLayouts/slideLayout2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50.png"/><Relationship Id="rId2" Type="http://schemas.openxmlformats.org/officeDocument/2006/relationships/image" Target="../media/image151.png"/><Relationship Id="rId3" Type="http://schemas.openxmlformats.org/officeDocument/2006/relationships/slideLayout" Target="../slideLayouts/slideLayout2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52.png"/><Relationship Id="rId2" Type="http://schemas.openxmlformats.org/officeDocument/2006/relationships/image" Target="../media/image153.png"/><Relationship Id="rId3" Type="http://schemas.openxmlformats.org/officeDocument/2006/relationships/slideLayout" Target="../slideLayouts/slideLayout2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54.png"/><Relationship Id="rId2" Type="http://schemas.openxmlformats.org/officeDocument/2006/relationships/image" Target="../media/image155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56.png"/><Relationship Id="rId2" Type="http://schemas.openxmlformats.org/officeDocument/2006/relationships/image" Target="../media/image155.png"/><Relationship Id="rId3" Type="http://schemas.openxmlformats.org/officeDocument/2006/relationships/slideLayout" Target="../slideLayouts/slideLayout2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57.png"/><Relationship Id="rId2" Type="http://schemas.openxmlformats.org/officeDocument/2006/relationships/image" Target="../media/image158.png"/><Relationship Id="rId3" Type="http://schemas.openxmlformats.org/officeDocument/2006/relationships/slideLayout" Target="../slideLayouts/slideLayout2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59.png"/><Relationship Id="rId2" Type="http://schemas.openxmlformats.org/officeDocument/2006/relationships/image" Target="../media/image160.png"/><Relationship Id="rId3" Type="http://schemas.openxmlformats.org/officeDocument/2006/relationships/slideLayout" Target="../slideLayouts/slideLayout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slideLayout" Target="../slideLayouts/slideLayout2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62.png"/><Relationship Id="rId2" Type="http://schemas.openxmlformats.org/officeDocument/2006/relationships/image" Target="../media/image163.png"/><Relationship Id="rId3" Type="http://schemas.openxmlformats.org/officeDocument/2006/relationships/slideLayout" Target="../slideLayouts/slideLayout2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64.png"/><Relationship Id="rId2" Type="http://schemas.openxmlformats.org/officeDocument/2006/relationships/slideLayout" Target="../slideLayouts/slideLayout2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slideLayout" Target="../slideLayouts/slideLayout2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66.png"/><Relationship Id="rId2" Type="http://schemas.openxmlformats.org/officeDocument/2006/relationships/slideLayout" Target="../slideLayouts/slideLayout2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67.png"/><Relationship Id="rId2" Type="http://schemas.openxmlformats.org/officeDocument/2006/relationships/image" Target="../media/image16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67.png"/><Relationship Id="rId2" Type="http://schemas.openxmlformats.org/officeDocument/2006/relationships/image" Target="../media/image169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6.png"/><Relationship Id="rId4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te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havioral analysis by measuremen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stereotyped movements in zebrafis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762120" y="59436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old A. Burge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boratory of Molecular Ge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6848640" y="5943600"/>
            <a:ext cx="16095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1480" y="17524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03280" y="1371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F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16280" y="1752480"/>
            <a:ext cx="3537000" cy="365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97480" y="137160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t manage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8672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non-fish contrast elements in the middle (eg dirt) are 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ception, regular grids are 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1960" y="304920"/>
            <a:ext cx="411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Image ac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Non-fish contrast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9440" y="37339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695760" cy="2581560"/>
          </a:xfrm>
          <a:prstGeom prst="rect">
            <a:avLst/>
          </a:prstGeom>
          <a:ln w="0">
            <a:noFill/>
          </a:ln>
        </p:spPr>
      </p:pic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Behavior parameters setu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828720" y="2178000"/>
            <a:ext cx="1276200" cy="1144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81360" y="18781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figurations to quickly access commonly used sett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ed in c:\ftrack\behavior_confi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124000" y="2206800"/>
            <a:ext cx="246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Obscure parame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1647720" cy="183816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2438280" y="1828800"/>
            <a:ext cx="65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mal method for calculating initiation frequenc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 = 100 x [total # LLC observed] / [total # larva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 to get LLC = [total # LLCs observed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2057400" y="3123720"/>
            <a:ext cx="45720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85800" y="44197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mal method for calculating initiation frequency removes larvae that executed a SLC from the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e [tot # larvae] = [all analyzable larvae] - [those that executed SL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ionale: important for calculating real rate of LLC respon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990720" y="365760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2362320" y="2742840"/>
            <a:ext cx="4038480" cy="25909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Configuration fi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590920" y="184140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necessary to go through setting parameters each tim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ved configurations are in c:\ftrack\analysis_confi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 NOT effect the behavior parameter sett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15620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1028880" cy="1323720"/>
          </a:xfrm>
          <a:prstGeom prst="rect">
            <a:avLst/>
          </a:prstGeom>
          <a:ln w="0">
            <a:noFill/>
          </a:ln>
        </p:spPr>
      </p:pic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Run analys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514600" y="13716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everything is in place - press Run butt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09480" y="2286000"/>
            <a:ext cx="76212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1447920" y="1523520"/>
            <a:ext cx="99036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2"/>
          <a:stretch/>
        </p:blipFill>
        <p:spPr>
          <a:xfrm>
            <a:off x="609480" y="3343320"/>
            <a:ext cx="4838760" cy="343836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5495760" y="37530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ame of each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171880" y="3924360"/>
            <a:ext cx="3352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600880" y="49910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king files combined for that s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524560" y="4000680"/>
            <a:ext cx="76320" cy="2438280"/>
          </a:xfrm>
          <a:custGeom>
            <a:avLst/>
            <a:gdLst>
              <a:gd name="textAreaLeft" fmla="*/ 0 w 76320"/>
              <a:gd name="textAreaRight" fmla="*/ 27360 w 763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09480" y="29718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ing analysis a window pops up sh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lote workshop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219320" y="2057400"/>
            <a:ext cx="6629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0. Overview of behavioral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1. Image acquisition and storage (workshop and dem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2. Flote: Single even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3/4. Flote / Batchan: Batch tracking and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Histo: Explor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6. Misc., questions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Output fi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57600" y="20574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tion frequency and dire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2533680" cy="241920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3657600" y="32004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inematic parameters for every movement episode analyz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657600" y="45864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ition, orientation measur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1647720" y="2238480"/>
            <a:ext cx="2048040" cy="952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704960" y="3876840"/>
            <a:ext cx="1933560" cy="77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1514520" y="3504960"/>
            <a:ext cx="2143080" cy="2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62120" y="6095880"/>
            <a:ext cx="7924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P: All are tab-separated text files easy to open in Ex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Output files: c1_analysis.t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143000" y="48006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larvae ident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248000" cy="311472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5934240" y="637236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larvae analyz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114800" y="46483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705720" y="4648320"/>
            <a:ext cx="936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rot="5400000">
            <a:off x="5333760" y="4038480"/>
            <a:ext cx="152280" cy="1676520"/>
          </a:xfrm>
          <a:custGeom>
            <a:avLst/>
            <a:gdLst>
              <a:gd name="textAreaLeft" fmla="*/ 0 w 152280"/>
              <a:gd name="textAreaRight" fmla="*/ 5508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410080" y="500076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886200" y="52578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Excluded for each reason (many larvae are exluded for multiple reas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Output files: c1_analysis.t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48006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Any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505320" y="46483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rot="5400000">
            <a:off x="5486400" y="3047760"/>
            <a:ext cx="152280" cy="3657600"/>
          </a:xfrm>
          <a:custGeom>
            <a:avLst/>
            <a:gdLst>
              <a:gd name="textAreaLeft" fmla="*/ 0 w 152280"/>
              <a:gd name="textAreaRight" fmla="*/ 55080 w 1522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562720" y="500076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657600" y="52578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tion frequency for maneu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562720" cy="3057480"/>
          </a:xfrm>
          <a:prstGeom prst="rect">
            <a:avLst/>
          </a:prstGeom>
          <a:ln w="0">
            <a:noFill/>
          </a:ln>
        </p:spPr>
      </p:pic>
      <p:sp>
        <p:nvSpPr>
          <p:cNvPr id="888" name=""/>
          <p:cNvSpPr/>
          <p:nvPr/>
        </p:nvSpPr>
        <p:spPr>
          <a:xfrm>
            <a:off x="4457880" y="2666880"/>
            <a:ext cx="41904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876920" y="2666880"/>
            <a:ext cx="1266840" cy="162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134040" y="2666880"/>
            <a:ext cx="419040" cy="1905120"/>
          </a:xfrm>
          <a:prstGeom prst="rect">
            <a:avLst/>
          </a:pr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553080" y="2666880"/>
            <a:ext cx="838440" cy="152640"/>
          </a:xfrm>
          <a:prstGeom prst="rect">
            <a:avLst/>
          </a:pr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4724280" cy="3028680"/>
          </a:xfrm>
          <a:prstGeom prst="rect">
            <a:avLst/>
          </a:prstGeom>
          <a:ln w="0">
            <a:noFill/>
          </a:ln>
        </p:spPr>
      </p:pic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Output files: c1_analysis.t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rot="5400000">
            <a:off x="4914720" y="3238200"/>
            <a:ext cx="152280" cy="3276720"/>
          </a:xfrm>
          <a:custGeom>
            <a:avLst/>
            <a:gdLst>
              <a:gd name="textAreaLeft" fmla="*/ 0 w 152280"/>
              <a:gd name="textAreaRight" fmla="*/ 55080 w 15228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981680" y="50101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743200" y="53341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ft/Right direction of maneu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g Obend(r) = "The proportion of Obends made in a rightward directio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24160" y="2838600"/>
            <a:ext cx="419400" cy="190476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43560" y="2838600"/>
            <a:ext cx="1266840" cy="16164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324480" y="2895480"/>
            <a:ext cx="3812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086600" y="28954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NaN: can't be calculated  (bursts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4019400" cy="3057480"/>
          </a:xfrm>
          <a:prstGeom prst="rect">
            <a:avLst/>
          </a:prstGeom>
          <a:ln w="0">
            <a:noFill/>
          </a:ln>
        </p:spPr>
      </p:pic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Output files: c1_analysis.t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rot="5400000">
            <a:off x="3457440" y="3581280"/>
            <a:ext cx="152280" cy="2590560"/>
          </a:xfrm>
          <a:custGeom>
            <a:avLst/>
            <a:gdLst>
              <a:gd name="textAreaLeft" fmla="*/ 0 w 152280"/>
              <a:gd name="textAreaRight" fmla="*/ 55080 w 15228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533760" y="502920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562720" y="3200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- relative to 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, # - relative to (x,y)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91040" y="2900520"/>
            <a:ext cx="514080" cy="190476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714840" y="2900520"/>
            <a:ext cx="1057320" cy="17136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6858000" y="5114880"/>
            <a:ext cx="9360" cy="13622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161400" y="5105520"/>
            <a:ext cx="69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943680" y="5105520"/>
            <a:ext cx="173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ways tow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b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ways a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1743120" cy="109548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7315200" y="2590920"/>
            <a:ext cx="9360" cy="51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38280" y="5486400"/>
            <a:ext cx="44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as: Directionality of maneuvers relative to a target point or 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304920"/>
            <a:ext cx="445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Video ac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How many images per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2894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umber of fra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Startle responses: 100 frames after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ormal swimming: 400 frames per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2986200">
            <a:off x="5819400" y="2157480"/>
            <a:ext cx="2514600" cy="2514600"/>
          </a:xfrm>
          <a:prstGeom prst="parallelogram">
            <a:avLst>
              <a:gd name="adj" fmla="val 4242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2968800">
            <a:off x="6744960" y="2859120"/>
            <a:ext cx="987480" cy="1066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2968800">
            <a:off x="6743520" y="2781000"/>
            <a:ext cx="990360" cy="1066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6858000" y="457200"/>
            <a:ext cx="512640" cy="11383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6980400" y="1484280"/>
            <a:ext cx="234720" cy="200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ound"/>
          <p:cNvSpPr/>
          <p:nvPr/>
        </p:nvSpPr>
        <p:spPr>
          <a:xfrm rot="20001600">
            <a:off x="6324120" y="3428640"/>
            <a:ext cx="457200" cy="533520"/>
          </a:xfrm>
          <a:prstGeom prst="pie">
            <a:avLst/>
          </a:prstGeom>
          <a:solidFill>
            <a:srgbClr val="f20a3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mainfrm"/>
          <p:cNvSpPr/>
          <p:nvPr/>
        </p:nvSpPr>
        <p:spPr>
          <a:xfrm>
            <a:off x="5715000" y="1676520"/>
            <a:ext cx="317520" cy="37944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4"/>
            <a:endCxn id="95" idx="8"/>
          </p:cNvCxnSpPr>
          <p:nvPr/>
        </p:nvCxnSpPr>
        <p:spPr>
          <a:xfrm rot="10800000">
            <a:off x="5873040" y="2055240"/>
            <a:ext cx="475200" cy="17420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6706800" y="15228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76800" y="388620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20640" y="167652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5" idx="9"/>
            <a:endCxn id="92" idx="4"/>
          </p:cNvCxnSpPr>
          <p:nvPr/>
        </p:nvCxnSpPr>
        <p:spPr>
          <a:xfrm flipH="1" flipV="1" rot="5400000">
            <a:off x="6072840" y="763560"/>
            <a:ext cx="713520" cy="11131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457200" y="17524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must be 1000 f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for kinematic analy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276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stimu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Collect 10-30 images before the stimulus trigger to identify fish already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Output files: summary.t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33520" y="15238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position, orientation and kinematics of every movement ident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85800" y="61722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ame of the trial set appended by the # of the trackin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990720" y="548640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438280" y="548640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209680" y="571500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umb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ave the fish during track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1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2266920" cy="327636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/>
          <p:nvPr/>
        </p:nvSpPr>
        <p:spPr>
          <a:xfrm>
            <a:off x="2857680" y="340056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200400" y="2133720"/>
            <a:ext cx="42670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es for type of maneu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0 - No movement (not usually repor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- S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LLC or Routine 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- Sco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- Bu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- Ob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 - [Unidentifiabl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 - Jb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457200" y="1619280"/>
            <a:ext cx="5305320" cy="386712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4915080" y="4924440"/>
            <a:ext cx="76176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6248520"/>
            <a:ext cx="815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: Always confirm findings in histo using a real statistics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867280" y="48769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file to analyz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686560" y="50482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The histo window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1371600" y="1533600"/>
            <a:ext cx="6438960" cy="509580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2657520" y="1809720"/>
            <a:ext cx="22096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Graphing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48360" y="2133720"/>
            <a:ext cx="762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143760" y="4133880"/>
            <a:ext cx="13906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Types of grap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2"/>
          <a:stretch/>
        </p:blipFill>
        <p:spPr>
          <a:xfrm>
            <a:off x="3429000" y="13716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3"/>
          <a:stretch/>
        </p:blipFill>
        <p:spPr>
          <a:xfrm>
            <a:off x="5715000" y="13716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4"/>
          <a:stretch/>
        </p:blipFill>
        <p:spPr>
          <a:xfrm>
            <a:off x="5715000" y="29718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"/>
          <p:cNvPicPr/>
          <p:nvPr/>
        </p:nvPicPr>
        <p:blipFill>
          <a:blip r:embed="rId5"/>
          <a:stretch/>
        </p:blipFill>
        <p:spPr>
          <a:xfrm>
            <a:off x="1143000" y="45720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/>
          <p:cNvPicPr/>
          <p:nvPr/>
        </p:nvPicPr>
        <p:blipFill>
          <a:blip r:embed="rId6"/>
          <a:stretch/>
        </p:blipFill>
        <p:spPr>
          <a:xfrm>
            <a:off x="3429000" y="45720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/>
          <p:cNvPicPr/>
          <p:nvPr/>
        </p:nvPicPr>
        <p:blipFill>
          <a:blip r:embed="rId7"/>
          <a:stretch/>
        </p:blipFill>
        <p:spPr>
          <a:xfrm>
            <a:off x="5705640" y="45720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943" name="" descr=""/>
          <p:cNvPicPr/>
          <p:nvPr/>
        </p:nvPicPr>
        <p:blipFill>
          <a:blip r:embed="rId8"/>
          <a:stretch/>
        </p:blipFill>
        <p:spPr>
          <a:xfrm>
            <a:off x="1143000" y="29718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9"/>
          <a:stretch/>
        </p:blipFill>
        <p:spPr>
          <a:xfrm>
            <a:off x="3419640" y="291456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Types of grap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947" name="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1009800" cy="173340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3"/>
          <a:stretch/>
        </p:blipFill>
        <p:spPr>
          <a:xfrm>
            <a:off x="4267080" y="13716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4"/>
          <a:stretch/>
        </p:blipFill>
        <p:spPr>
          <a:xfrm>
            <a:off x="6553080" y="13716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5"/>
          <a:stretch/>
        </p:blipFill>
        <p:spPr>
          <a:xfrm>
            <a:off x="6553080" y="29718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951" name="" descr=""/>
          <p:cNvPicPr/>
          <p:nvPr/>
        </p:nvPicPr>
        <p:blipFill>
          <a:blip r:embed="rId6"/>
          <a:stretch/>
        </p:blipFill>
        <p:spPr>
          <a:xfrm>
            <a:off x="1981080" y="45720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7"/>
          <a:stretch/>
        </p:blipFill>
        <p:spPr>
          <a:xfrm>
            <a:off x="4267080" y="45720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8"/>
          <a:stretch/>
        </p:blipFill>
        <p:spPr>
          <a:xfrm>
            <a:off x="6543720" y="45720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9"/>
          <a:stretch/>
        </p:blipFill>
        <p:spPr>
          <a:xfrm>
            <a:off x="1981080" y="29718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10"/>
          <a:stretch/>
        </p:blipFill>
        <p:spPr>
          <a:xfrm>
            <a:off x="4257720" y="29145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704880" y="1962000"/>
            <a:ext cx="961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676520" y="2057400"/>
            <a:ext cx="51051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Defining sets of grou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3520" y="12193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a set is a clump of measurements who need to be averag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514600" y="18288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 instruc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 what measurements go together based on pattern match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609480" y="1876320"/>
            <a:ext cx="1533600" cy="269568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/>
          <p:nvPr/>
        </p:nvSpPr>
        <p:spPr>
          <a:xfrm>
            <a:off x="2209680" y="3019320"/>
            <a:ext cx="0" cy="1524240"/>
          </a:xfrm>
          <a:prstGeom prst="line">
            <a:avLst/>
          </a:prstGeom>
          <a:ln w="28440">
            <a:solidFill>
              <a:srgbClr val="b2b2b2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514600" y="30924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  <a:ea typeface="Arial"/>
              </a:rPr>
              <a:t>Baseline: Combined into a single data line call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  <a:ea typeface="Arial"/>
              </a:rPr>
              <a:t>base_t028_00a_e00.sa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514600" y="423540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is experiment, we want to compare the average baseline activity to the average stimulus activity and therefore need to find the average and st. dev.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  <a:ea typeface="Arial"/>
              </a:rPr>
              <a:t>base_t028_00a_e00.sa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  <a:ea typeface="Arial"/>
              </a:rPr>
              <a:t>base_t028_01a_e00.sa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base_t028_02a_e00.sa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514600" y="626256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ould use 'base_t028' to distinguish from 'flow_t028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705040" cy="2190600"/>
          </a:xfrm>
          <a:prstGeom prst="rect">
            <a:avLst/>
          </a:prstGeom>
          <a:ln w="0">
            <a:noFill/>
          </a:ln>
        </p:spPr>
      </p:pic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Defining sets of grou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886200" y="14479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ould use 'base_t028' to distinguish from 'flow_t028'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Ignore the last 8 characters of the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286000" y="2971800"/>
            <a:ext cx="961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2933640" cy="66672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1219320" y="2971800"/>
            <a:ext cx="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124080" y="304812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543560" y="2876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 1. Select from dropdown me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09480" y="54864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 2. Open dialog box and click where you want to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629240" cy="1800360"/>
          </a:xfrm>
          <a:prstGeom prst="rect">
            <a:avLst/>
          </a:prstGeom>
          <a:ln w="0">
            <a:noFill/>
          </a:ln>
        </p:spPr>
      </p:pic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Checking the sets contain the right grou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410080" y="144792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opdown menu contains all the sets made according to your criter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ing a set caus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5257440" y="236232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2"/>
          <a:stretch/>
        </p:blipFill>
        <p:spPr>
          <a:xfrm>
            <a:off x="5486400" y="4724280"/>
            <a:ext cx="2905200" cy="100980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/>
          <p:cNvPicPr/>
          <p:nvPr/>
        </p:nvPicPr>
        <p:blipFill>
          <a:blip r:embed="rId3"/>
          <a:stretch/>
        </p:blipFill>
        <p:spPr>
          <a:xfrm>
            <a:off x="762120" y="4648320"/>
            <a:ext cx="2857320" cy="190476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1066680" y="40384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 window: set is highligh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410080" y="40384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sets window: groups in the set are listed.  Check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3276360" y="2971800"/>
            <a:ext cx="281916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5880" y="2971800"/>
            <a:ext cx="0" cy="1066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Bar plo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43480" cy="4762800"/>
          </a:xfrm>
          <a:prstGeom prst="rect">
            <a:avLst/>
          </a:prstGeom>
          <a:ln w="0">
            <a:noFill/>
          </a:ln>
        </p:spPr>
      </p:pic>
      <p:sp>
        <p:nvSpPr>
          <p:cNvPr id="987" name=""/>
          <p:cNvSpPr/>
          <p:nvPr/>
        </p:nvSpPr>
        <p:spPr>
          <a:xfrm>
            <a:off x="1981080" y="60958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ars show mean, st. dev and N for the four 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80880" y="259092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arameter being analyz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71440" y="349560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477120" y="11430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lick once on another bar to make it the selected 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6552720" y="2286000"/>
            <a:ext cx="6858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" descr=""/>
          <p:cNvPicPr/>
          <p:nvPr/>
        </p:nvPicPr>
        <p:blipFill>
          <a:blip r:embed="rId1"/>
          <a:stretch/>
        </p:blipFill>
        <p:spPr>
          <a:xfrm>
            <a:off x="1000080" y="1333440"/>
            <a:ext cx="7143840" cy="476244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866520" cy="1171800"/>
          </a:xfrm>
          <a:prstGeom prst="rect">
            <a:avLst/>
          </a:prstGeom>
          <a:ln w="0">
            <a:noFill/>
          </a:ln>
        </p:spPr>
      </p:pic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Bar plo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80880" y="32767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ove bar left/r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1143000" y="2209680"/>
            <a:ext cx="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429000" y="1123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oggle Stnd Dev /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838080" y="2209680"/>
            <a:ext cx="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7391520" y="380880"/>
            <a:ext cx="1352520" cy="276228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6095880" y="1219320"/>
            <a:ext cx="1295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095880" y="1371600"/>
            <a:ext cx="1295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477120" y="1981080"/>
            <a:ext cx="9144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77280" y="304920"/>
            <a:ext cx="472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toring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Optimal file naming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6765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8288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981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1337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2286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24382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2590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7432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895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30481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2004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33526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35053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36576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098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39625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41148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44197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152388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late of larvae was tested with a sequence of 20 stimuli, with a recording window of 400 frames collected for each stimulu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to save the 8000 fram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56386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of a standard naming convention wi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Let Flote load files more quickly during 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Let you get maximum value out of the q&amp;d stati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2209680" y="2451240"/>
            <a:ext cx="4229280" cy="16858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lecting a parameter to analyz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209680" y="46609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opdown menu contains all the parameters (column headers) in the f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2971800" y="42037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4038480" y="2146320"/>
            <a:ext cx="45720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4419720" y="2146320"/>
            <a:ext cx="45720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267080" y="15368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previous or next parameter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" descr=""/>
          <p:cNvPicPr/>
          <p:nvPr/>
        </p:nvPicPr>
        <p:blipFill>
          <a:blip r:embed="rId1"/>
          <a:stretch/>
        </p:blipFill>
        <p:spPr>
          <a:xfrm>
            <a:off x="2000160" y="1447920"/>
            <a:ext cx="7143840" cy="4762440"/>
          </a:xfrm>
          <a:prstGeom prst="rect">
            <a:avLst/>
          </a:prstGeom>
          <a:ln w="0">
            <a:noFill/>
          </a:ln>
        </p:spPr>
      </p:pic>
      <p:pic>
        <p:nvPicPr>
          <p:cNvPr id="1011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1352520" cy="2790720"/>
          </a:xfrm>
          <a:prstGeom prst="rect">
            <a:avLst/>
          </a:prstGeom>
          <a:ln w="0">
            <a:noFill/>
          </a:ln>
        </p:spPr>
      </p:pic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Bar plo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486080" y="1599840"/>
            <a:ext cx="1133280" cy="981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486080" y="2762280"/>
            <a:ext cx="2552400" cy="66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5280" y="16765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og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N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295280" y="28954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og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-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133880" y="3228840"/>
            <a:ext cx="457200" cy="45720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058080" y="3429000"/>
            <a:ext cx="457200" cy="45720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020000" y="1914480"/>
            <a:ext cx="457200" cy="45720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 flipV="1">
            <a:off x="4647960" y="3580920"/>
            <a:ext cx="609480" cy="3812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257800" y="3657240"/>
            <a:ext cx="685800" cy="3049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5257800" y="2285640"/>
            <a:ext cx="1752480" cy="16765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124080" y="4572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Hold left mouse button down and drag between columns to compare them by t-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4800240" y="1066680"/>
            <a:ext cx="1522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952880" y="1066680"/>
            <a:ext cx="175284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" descr=""/>
          <p:cNvPicPr/>
          <p:nvPr/>
        </p:nvPicPr>
        <p:blipFill>
          <a:blip r:embed="rId1"/>
          <a:stretch/>
        </p:blipFill>
        <p:spPr>
          <a:xfrm>
            <a:off x="2000160" y="1409760"/>
            <a:ext cx="7143840" cy="476244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1352520" cy="279072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Bar plo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905040" y="1009440"/>
            <a:ext cx="2314440" cy="2066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200400" y="4572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oggle paired t to make the comparison between selected columns a pairwise t-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4800240" y="1066680"/>
            <a:ext cx="1522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952880" y="1066680"/>
            <a:ext cx="175284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371600" y="6324480"/>
            <a:ext cx="69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elect blank in sets dropdown menu to have no set sel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rot="16200000">
            <a:off x="5715000" y="-609840"/>
            <a:ext cx="75960" cy="6019920"/>
          </a:xfrm>
          <a:custGeom>
            <a:avLst/>
            <a:gdLst>
              <a:gd name="textAreaLeft" fmla="*/ 0 w 75960"/>
              <a:gd name="textAreaRight" fmla="*/ 53280 w 75960"/>
              <a:gd name="textAreaTop" fmla="*/ 250560 h 6019920"/>
              <a:gd name="textAreaBottom" fmla="*/ 5769360 h 601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666880" y="20574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rag across whole graph to reset bar comparis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62120" cy="130500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2"/>
          <a:stretch/>
        </p:blipFill>
        <p:spPr>
          <a:xfrm>
            <a:off x="2000160" y="1409760"/>
            <a:ext cx="7143840" cy="476244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Bar plo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295280" y="2209680"/>
            <a:ext cx="83844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666880" y="100476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hows t-tests between the two parameters for each s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648320" y="12952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57200" y="3276720"/>
            <a:ext cx="167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elect a parameter in the 2nd parameter dropdown menu to plot both in o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Histogram mode: for kinematic analys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85800" y="6324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ary.trk file to look at kinematic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1"/>
          <a:stretch/>
        </p:blipFill>
        <p:spPr>
          <a:xfrm>
            <a:off x="3591000" y="1219320"/>
            <a:ext cx="3571920" cy="238104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/>
          <p:cNvPicPr/>
          <p:nvPr/>
        </p:nvPicPr>
        <p:blipFill>
          <a:blip r:embed="rId2"/>
          <a:stretch/>
        </p:blipFill>
        <p:spPr>
          <a:xfrm>
            <a:off x="304920" y="3562200"/>
            <a:ext cx="3571920" cy="238140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3"/>
          <a:stretch/>
        </p:blipFill>
        <p:spPr>
          <a:xfrm>
            <a:off x="304920" y="1219320"/>
            <a:ext cx="3571920" cy="238104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4"/>
          <a:stretch/>
        </p:blipFill>
        <p:spPr>
          <a:xfrm>
            <a:off x="3591000" y="3581280"/>
            <a:ext cx="3571920" cy="238140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5"/>
          <a:stretch/>
        </p:blipFill>
        <p:spPr>
          <a:xfrm>
            <a:off x="7467480" y="1219320"/>
            <a:ext cx="1447920" cy="112392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>
            <a:off x="7848720" y="228600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315200" y="33526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djust bi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7143480" cy="4762440"/>
          </a:xfrm>
          <a:prstGeom prst="rect">
            <a:avLst/>
          </a:prstGeom>
          <a:ln w="0">
            <a:noFill/>
          </a:ln>
        </p:spPr>
      </p:pic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Histogram m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85800" y="62485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lack - all data points loa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4038480" y="594324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581280" y="5676840"/>
            <a:ext cx="2210040" cy="190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38080" y="182880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  <a:ea typeface="Arial"/>
              </a:rPr>
              <a:t>Blue - selected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1905120" y="13716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2400" y="1143000"/>
            <a:ext cx="2495520" cy="190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rot="16200000">
            <a:off x="3124080" y="3961800"/>
            <a:ext cx="152280" cy="914400"/>
          </a:xfrm>
          <a:custGeom>
            <a:avLst/>
            <a:gdLst>
              <a:gd name="textAreaLeft" fmla="*/ 0 w 152280"/>
              <a:gd name="textAreaRight" fmla="*/ 106920 w 15228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286000" y="3625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rag across to select a 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143000"/>
            <a:ext cx="2971800" cy="190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657600" y="18288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Orange - selected range for selected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952880" y="13716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467480" y="220968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162920" y="31240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range: 1 or 2 std dev from m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7" name="" descr=""/>
          <p:cNvPicPr/>
          <p:nvPr/>
        </p:nvPicPr>
        <p:blipFill>
          <a:blip r:embed="rId2"/>
          <a:stretch/>
        </p:blipFill>
        <p:spPr>
          <a:xfrm>
            <a:off x="7248600" y="1143000"/>
            <a:ext cx="1895400" cy="1133640"/>
          </a:xfrm>
          <a:prstGeom prst="rect">
            <a:avLst/>
          </a:prstGeom>
          <a:ln w="0">
            <a:noFill/>
          </a:ln>
        </p:spPr>
      </p:pic>
      <p:sp>
        <p:nvSpPr>
          <p:cNvPr id="1068" name=""/>
          <p:cNvSpPr/>
          <p:nvPr/>
        </p:nvSpPr>
        <p:spPr>
          <a:xfrm>
            <a:off x="8991720" y="2133720"/>
            <a:ext cx="0" cy="25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162920" y="449424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all points outside the selected ran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7143840" cy="4762440"/>
          </a:xfrm>
          <a:prstGeom prst="rect">
            <a:avLst/>
          </a:prstGeom>
          <a:ln w="0">
            <a:noFill/>
          </a:ln>
        </p:spPr>
      </p:pic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Histogram m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5410080" y="2286000"/>
            <a:ext cx="9907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267080" y="2971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card all non selected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638440" cy="111420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6858000" y="2286000"/>
            <a:ext cx="83808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553080" y="29718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card the currently selected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Histogram m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810240" cy="885960"/>
          </a:xfrm>
          <a:prstGeom prst="rect">
            <a:avLst/>
          </a:prstGeom>
          <a:ln w="0">
            <a:noFill/>
          </a:ln>
        </p:spPr>
      </p:pic>
      <p:sp>
        <p:nvSpPr>
          <p:cNvPr id="1079" name=""/>
          <p:cNvSpPr/>
          <p:nvPr/>
        </p:nvSpPr>
        <p:spPr>
          <a:xfrm flipV="1">
            <a:off x="3048120" y="1218960"/>
            <a:ext cx="182880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809880" y="182880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876920" y="10666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ow only selected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76920" y="1666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ow as relative frequency distribution (0-10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3" name="" descr=""/>
          <p:cNvPicPr/>
          <p:nvPr/>
        </p:nvPicPr>
        <p:blipFill>
          <a:blip r:embed="rId2"/>
          <a:stretch/>
        </p:blipFill>
        <p:spPr>
          <a:xfrm>
            <a:off x="2362320" y="3352680"/>
            <a:ext cx="4286160" cy="285768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 flipV="1" rot="5400000">
            <a:off x="1790640" y="952560"/>
            <a:ext cx="76320" cy="2133360"/>
          </a:xfrm>
          <a:custGeom>
            <a:avLst/>
            <a:gdLst>
              <a:gd name="textAreaLeft" fmla="*/ 0 w 76320"/>
              <a:gd name="textAreaRight" fmla="*/ 53640 w 76320"/>
              <a:gd name="textAreaTop" fmla="*/ 88560 h 2133360"/>
              <a:gd name="textAreaBottom" fmla="*/ 204480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09480" y="21337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t view buttons: Select parameter and bin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2209680" y="1447920"/>
            <a:ext cx="38124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Histogram m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7143480" cy="4762440"/>
          </a:xfrm>
          <a:prstGeom prst="rect">
            <a:avLst/>
          </a:prstGeom>
          <a:ln w="0">
            <a:noFill/>
          </a:ln>
        </p:spPr>
      </p:pic>
      <p:sp>
        <p:nvSpPr>
          <p:cNvPr id="1089" name=""/>
          <p:cNvSpPr/>
          <p:nvPr/>
        </p:nvSpPr>
        <p:spPr>
          <a:xfrm>
            <a:off x="2286000" y="63244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'Resp' - Codes for the type of maneu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0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800280" cy="2133720"/>
          </a:xfrm>
          <a:prstGeom prst="rect">
            <a:avLst/>
          </a:prstGeom>
          <a:ln w="0">
            <a:noFill/>
          </a:ln>
        </p:spPr>
      </p:pic>
      <p:sp>
        <p:nvSpPr>
          <p:cNvPr id="1091" name=""/>
          <p:cNvSpPr/>
          <p:nvPr/>
        </p:nvSpPr>
        <p:spPr>
          <a:xfrm>
            <a:off x="762120" y="2057400"/>
            <a:ext cx="0" cy="19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28600" y="403848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ing a maneuver masks out data belonging to a different maneuv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Analyzing a selected ran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819520" y="1143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a range in the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: Angle &gt;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00400" y="3122640"/>
            <a:ext cx="37339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another parameter.  The orange still highlights the same data poi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7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77280" y="304920"/>
            <a:ext cx="472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toring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Optimal file naming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ile"/>
          <p:cNvSpPr/>
          <p:nvPr/>
        </p:nvSpPr>
        <p:spPr>
          <a:xfrm>
            <a:off x="609480" y="1600200"/>
            <a:ext cx="1219320" cy="838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0120" y="20318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_00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1600" y="1905120"/>
            <a:ext cx="4472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ing conv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Folder Name]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####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starts at zero (except Photr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umber length no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rrect mistakes with AF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58720" y="1978200"/>
            <a:ext cx="1648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_00a_0000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_00a_000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_00a_0002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_00a_0003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_00a_0004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_00a_0005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_00a_0006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_00a_0007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_00a_0008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_00a_0009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_00a_0010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_00a_001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_00a_0012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_00a_0013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_00a_0014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_00a_0015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_00a_0016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_00a_0017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_00a_0018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_00a_0019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_00a_7999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Analyzing a selected ran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819520" y="1143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a range in the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: Angle &gt;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257800" y="2743200"/>
            <a:ext cx="373392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r graph mode: select a (different) parameter in both the primary and secondary dropdown menu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s mean values for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lack: Angle &lt;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range: Angle &gt; 4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2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Comparing kinematic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1819440" cy="1600200"/>
          </a:xfrm>
          <a:prstGeom prst="rect">
            <a:avLst/>
          </a:prstGeom>
          <a:ln w="0">
            <a:noFill/>
          </a:ln>
        </p:spPr>
      </p:pic>
      <p:sp>
        <p:nvSpPr>
          <p:cNvPr id="1105" name=""/>
          <p:cNvSpPr/>
          <p:nvPr/>
        </p:nvSpPr>
        <p:spPr>
          <a:xfrm>
            <a:off x="2743200" y="1219320"/>
            <a:ext cx="373392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Step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a set for each plate and condition tested to find the average values for movement ev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2"/>
          <a:stretch/>
        </p:blipFill>
        <p:spPr>
          <a:xfrm>
            <a:off x="1704960" y="3333600"/>
            <a:ext cx="790560" cy="213372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/>
          <p:nvPr/>
        </p:nvSpPr>
        <p:spPr>
          <a:xfrm>
            <a:off x="2743200" y="3352680"/>
            <a:ext cx="3733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Step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a maneuver to analyze (there is no point taking the mean across all maneuver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Comparing kinematic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00400" y="1219320"/>
            <a:ext cx="5867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Step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ve the means for each of the 12 se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Creates a new file summary_means.t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utomatically loads the new f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200400" y="3962520"/>
            <a:ext cx="373392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Step 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new sets using pattern matching to create four se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se_t0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se_t0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flow_t0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flow_t0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has three data points in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1114560" cy="2286000"/>
          </a:xfrm>
          <a:prstGeom prst="rect">
            <a:avLst/>
          </a:prstGeom>
          <a:ln w="0">
            <a:noFill/>
          </a:ln>
        </p:spPr>
      </p:pic>
      <p:pic>
        <p:nvPicPr>
          <p:cNvPr id="1112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28386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Comparing kinematic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143840" cy="476244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1905120" y="6172200"/>
            <a:ext cx="586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Step 5.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groups with bar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The print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590920" y="1371600"/>
            <a:ext cx="586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ft click: copies the graph window at the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90920" y="2224080"/>
            <a:ext cx="5867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ght click: copies the graph window at the position, but at 0.25x the siz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1457280" cy="2305080"/>
          </a:xfrm>
          <a:prstGeom prst="rect">
            <a:avLst/>
          </a:prstGeom>
          <a:ln w="0">
            <a:noFill/>
          </a:ln>
        </p:spPr>
      </p:pic>
      <p:pic>
        <p:nvPicPr>
          <p:cNvPr id="1120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1486080" cy="232416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2590920" y="39625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nu - options for output or clear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595440" y="1128600"/>
            <a:ext cx="2904840" cy="5648400"/>
          </a:xfrm>
          <a:prstGeom prst="rect">
            <a:avLst/>
          </a:prstGeom>
          <a:ln w="0">
            <a:noFill/>
          </a:ln>
        </p:spPr>
      </p:pic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Histo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The subset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733920" y="1295280"/>
            <a:ext cx="457200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ue1 (Value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ue1 = the value for the currently selected par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ue2 = the value for the parameter in which a range has been selec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581280" y="4952880"/>
            <a:ext cx="38102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ggle off group names to see values only (useful for copy / paste into Exc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28800" y="6629400"/>
            <a:ext cx="1905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781440" y="6429240"/>
            <a:ext cx="4981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 the item where the cursor is plac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619280" y="1428840"/>
            <a:ext cx="2038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828720" y="5171760"/>
            <a:ext cx="2771640" cy="1190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lote workshop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219320" y="2057400"/>
            <a:ext cx="6629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0. Overview of behavioral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1. Image acquisition and storage (workshop and dem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2. Flote: Single even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3/4. Flote / Batchan: Batch tracking and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5. Histo: Explor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Misc., questions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/>
          <p:nvPr/>
        </p:nvSpPr>
        <p:spPr>
          <a:xfrm>
            <a:off x="3426840" y="2057400"/>
            <a:ext cx="41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 this directory up regularl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in doubt where a file is - look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lote directory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c:\f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4004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5410080" y="1873080"/>
            <a:ext cx="28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aluable utility by Alex Faul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F5 Utility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Batchan rename large file stack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45626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3505320" y="1523880"/>
            <a:ext cx="525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spl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no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imul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spl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no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 Wind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spl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no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tup Sti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enter the first and last frame of the sti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nnotating stimulus time on displ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0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2419560" cy="4496040"/>
          </a:xfrm>
          <a:prstGeom prst="rect">
            <a:avLst/>
          </a:prstGeom>
          <a:ln w="0">
            <a:noFill/>
          </a:ln>
        </p:spPr>
      </p:pic>
      <p:pic>
        <p:nvPicPr>
          <p:cNvPr id="1141" name="" descr=""/>
          <p:cNvPicPr/>
          <p:nvPr/>
        </p:nvPicPr>
        <p:blipFill>
          <a:blip r:embed="rId2"/>
          <a:stretch/>
        </p:blipFill>
        <p:spPr>
          <a:xfrm>
            <a:off x="3505320" y="4876920"/>
            <a:ext cx="5209920" cy="1095120"/>
          </a:xfrm>
          <a:prstGeom prst="rect">
            <a:avLst/>
          </a:prstGeom>
          <a:ln w="0">
            <a:noFill/>
          </a:ln>
        </p:spPr>
      </p:pic>
      <p:sp>
        <p:nvSpPr>
          <p:cNvPr id="1142" name=""/>
          <p:cNvSpPr/>
          <p:nvPr/>
        </p:nvSpPr>
        <p:spPr>
          <a:xfrm>
            <a:off x="609480" y="6253200"/>
            <a:ext cx="685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: Similar method to annotate the zoom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160" y="304920"/>
            <a:ext cx="69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toring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How to choose a folder name for easy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22360" y="274320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c100_00</a:t>
            </a:r>
            <a:r>
              <a:rPr b="1" lang="en-US" sz="5400" spc="-1" strike="noStrike">
                <a:solidFill>
                  <a:srgbClr val="ccccff"/>
                </a:solidFill>
                <a:latin typeface="Arial"/>
                <a:ea typeface="Arial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2679480" y="148464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47240" y="198108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ique name for this plate of f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622760" y="251460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64560" y="198108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  <a:ea typeface="Arial"/>
              </a:rPr>
              <a:t>Repeated tests: a to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3441600" y="3314520"/>
            <a:ext cx="304920" cy="99036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2070000" y="3314520"/>
            <a:ext cx="304920" cy="99036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28760" y="411480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i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 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08400" y="4114800"/>
            <a:ext cx="215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rst plate tes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der this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3505320" y="1523880"/>
            <a:ext cx="525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spl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no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me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spl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no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 Wind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lect Analysis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make sure t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parameter to be plotted is che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a larva by left clicking on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nnotating time series on displ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2419560" cy="4496040"/>
          </a:xfrm>
          <a:prstGeom prst="rect">
            <a:avLst/>
          </a:prstGeom>
          <a:ln w="0">
            <a:noFill/>
          </a:ln>
        </p:spPr>
      </p:pic>
      <p:pic>
        <p:nvPicPr>
          <p:cNvPr id="1146" name="" descr=""/>
          <p:cNvPicPr/>
          <p:nvPr/>
        </p:nvPicPr>
        <p:blipFill>
          <a:blip r:embed="rId2"/>
          <a:stretch/>
        </p:blipFill>
        <p:spPr>
          <a:xfrm>
            <a:off x="3505320" y="4952880"/>
            <a:ext cx="52099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160" y="304920"/>
            <a:ext cx="69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toring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How to choose a folder name for easy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752480"/>
            <a:ext cx="1524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000_0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000_00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000_0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000_01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000_02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000_02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100_0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100_00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100_0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100_01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100_02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100_02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19051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plate was tested tw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80716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Using a-z for multiple tests facilitates aver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Using common element for conditon facilitates aver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190512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3733920"/>
            <a:ext cx="76320" cy="1676160"/>
          </a:xfrm>
          <a:custGeom>
            <a:avLst/>
            <a:gdLst>
              <a:gd name="textAreaLeft" fmla="*/ 0 w 76320"/>
              <a:gd name="textAreaRight" fmla="*/ 27360 w 763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4419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plates tested per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77640" y="304920"/>
            <a:ext cx="660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toring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Optimal structure of folders for fa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ile"/>
          <p:cNvSpPr/>
          <p:nvPr/>
        </p:nvSpPr>
        <p:spPr>
          <a:xfrm>
            <a:off x="542880" y="1600200"/>
            <a:ext cx="1219320" cy="838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1720" y="195588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02_Star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ile"/>
          <p:cNvSpPr/>
          <p:nvPr/>
        </p:nvSpPr>
        <p:spPr>
          <a:xfrm>
            <a:off x="2676600" y="1600200"/>
            <a:ext cx="1218960" cy="838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ile"/>
          <p:cNvSpPr/>
          <p:nvPr/>
        </p:nvSpPr>
        <p:spPr>
          <a:xfrm>
            <a:off x="2676600" y="2666880"/>
            <a:ext cx="1218960" cy="838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ile"/>
          <p:cNvSpPr/>
          <p:nvPr/>
        </p:nvSpPr>
        <p:spPr>
          <a:xfrm>
            <a:off x="2676600" y="3657600"/>
            <a:ext cx="1218960" cy="838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ile"/>
          <p:cNvSpPr/>
          <p:nvPr/>
        </p:nvSpPr>
        <p:spPr>
          <a:xfrm>
            <a:off x="2676600" y="4724280"/>
            <a:ext cx="1218960" cy="838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520" y="203184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00_00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520" y="30225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00_00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520" y="401328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10_00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66520" y="50799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10_00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9080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9536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95360" y="2057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95360" y="4038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9536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175248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recordings that constitute an experiment in a fol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folder names are all the same 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o need for folder names to be zero ba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7640" y="304920"/>
            <a:ext cx="660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toring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Optimal structure of folders for fa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ile"/>
          <p:cNvSpPr/>
          <p:nvPr/>
        </p:nvSpPr>
        <p:spPr>
          <a:xfrm>
            <a:off x="533520" y="1600200"/>
            <a:ext cx="1218960" cy="838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ile"/>
          <p:cNvSpPr/>
          <p:nvPr/>
        </p:nvSpPr>
        <p:spPr>
          <a:xfrm>
            <a:off x="2438280" y="1600200"/>
            <a:ext cx="1219320" cy="838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ile"/>
          <p:cNvSpPr/>
          <p:nvPr/>
        </p:nvSpPr>
        <p:spPr>
          <a:xfrm>
            <a:off x="2438280" y="2590920"/>
            <a:ext cx="1219320" cy="838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ile"/>
          <p:cNvSpPr/>
          <p:nvPr/>
        </p:nvSpPr>
        <p:spPr>
          <a:xfrm>
            <a:off x="2438280" y="3581280"/>
            <a:ext cx="1219320" cy="838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ile"/>
          <p:cNvSpPr/>
          <p:nvPr/>
        </p:nvSpPr>
        <p:spPr>
          <a:xfrm>
            <a:off x="2438280" y="4648320"/>
            <a:ext cx="1219320" cy="838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0" y="190512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27120" y="195588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02_Star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28200" y="294624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02_F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27840" y="393696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03_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28560" y="5003640"/>
            <a:ext cx="107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04_P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2057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ile"/>
          <p:cNvSpPr/>
          <p:nvPr/>
        </p:nvSpPr>
        <p:spPr>
          <a:xfrm>
            <a:off x="4572000" y="1600200"/>
            <a:ext cx="1219320" cy="838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ile"/>
          <p:cNvSpPr/>
          <p:nvPr/>
        </p:nvSpPr>
        <p:spPr>
          <a:xfrm>
            <a:off x="4572000" y="2666880"/>
            <a:ext cx="1219320" cy="838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ile"/>
          <p:cNvSpPr/>
          <p:nvPr/>
        </p:nvSpPr>
        <p:spPr>
          <a:xfrm>
            <a:off x="4572000" y="3657600"/>
            <a:ext cx="1219320" cy="838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ile"/>
          <p:cNvSpPr/>
          <p:nvPr/>
        </p:nvSpPr>
        <p:spPr>
          <a:xfrm>
            <a:off x="4572000" y="4724280"/>
            <a:ext cx="1219320" cy="838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91120" y="2057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9112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6400" y="5638680"/>
            <a:ext cx="705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venien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Folders sit in a network shared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All experiment folders are in a common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3920" y="198108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00_00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3920" y="2971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00_00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3920" y="396252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10_00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3920" y="50292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10_00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1240" y="304920"/>
            <a:ext cx="311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toring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3680" y="1523880"/>
            <a:ext cx="31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PE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-bit (greysc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5 % 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98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nchmark: 15 seconds per 1000 frames (512x512 pi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rove sp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Save to local d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Use PCI based (or streaming!) ca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Regularly wipe and reformat driv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648320" y="2057400"/>
            <a:ext cx="449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Quick demo - single even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What happens during track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Step by step analyzing an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racking overview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Using Flote to track and analyze a vide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38862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te worksho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2057400"/>
            <a:ext cx="6629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 Overview of behavioral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1. Image acquisition and storage (workshop and dem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2. Flote: Single even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3/4. Flote / Batchan: Batch tracking and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5. Histo: Explor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6. Misc., questions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33720" y="2209680"/>
            <a:ext cx="4527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Select video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Load frames corresponding to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Select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Press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Press analy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racking overview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Five steps to analyze one video seque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70520" y="5867280"/>
            <a:ext cx="651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Demonstation: track set in spont director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racking: What happens?</a:t>
            </a:r>
            <a:br>
              <a:rPr sz="1800"/>
            </a:b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1. Follow larva from frame to fr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98400" y="1768320"/>
            <a:ext cx="4092840" cy="4249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952880" y="178920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icle tracking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Find all the larvae in fram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osition: the optical cent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rack: the position of each larva in all subsequent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29200" y="4572000"/>
            <a:ext cx="1066680" cy="14288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6248520" y="4572000"/>
            <a:ext cx="1066680" cy="14288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7467480" y="4572000"/>
            <a:ext cx="1067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racking: What happens?</a:t>
            </a:r>
            <a:br>
              <a:rPr sz="1800"/>
            </a:b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2. Estimate the curvature of the lar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1828800"/>
            <a:ext cx="6781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 ori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Fit a bar from the head centroid along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dy ori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Fit a bar from the end of the head 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il ori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Fit a bar from the end of the body 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33520" y="487692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racking: What happens?</a:t>
            </a:r>
            <a:br>
              <a:rPr sz="1800"/>
            </a:b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2. Estimate the curvature of the lar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1905120"/>
            <a:ext cx="556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v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um of angles between head/body and tail/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vature tim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Repeat for the larva over every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99960" y="1981080"/>
            <a:ext cx="1657440" cy="151452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380880" y="4500720"/>
            <a:ext cx="2806920" cy="757080"/>
            <a:chOff x="380880" y="4500720"/>
            <a:chExt cx="2806920" cy="757080"/>
          </a:xfrm>
        </p:grpSpPr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380880" y="4500720"/>
              <a:ext cx="2806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2666880" y="4500720"/>
              <a:ext cx="50508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racking: What happens?</a:t>
            </a:r>
            <a:br>
              <a:rPr sz="1800"/>
            </a:b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3. Find the position of the ey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946760" y="2514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806560" y="2514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7086600" y="251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33880" y="213372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434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51120" y="213372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xcluded from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22400" y="43434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alance de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54920" y="434340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oll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26520" y="43434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hmu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54100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Greatly improves tracking by excluding non-fish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For clean plates with rare collisions, is a good proxy for balance de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nalysis: What happens?</a:t>
            </a:r>
            <a:br>
              <a:rPr sz="1800"/>
            </a:b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1. Make a lot of kinematic measurem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54100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Kinematics are in themselves useful for studying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llows classification of the maneuver exec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358164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nalysis: What happens?</a:t>
            </a:r>
            <a:br>
              <a:rPr sz="1800"/>
            </a:b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2. Classify the event using kinematic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43200" y="1676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hing (station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1809720" cy="504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95160" y="2590920"/>
            <a:ext cx="1819440" cy="447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95160" y="3038400"/>
            <a:ext cx="1781280" cy="638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5029200" y="2571840"/>
            <a:ext cx="3809880" cy="42098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620120" y="3714840"/>
            <a:ext cx="1101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O-B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64520" y="3562200"/>
            <a:ext cx="689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25200" y="5924520"/>
            <a:ext cx="1015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  <a:ea typeface="Arial"/>
              </a:rPr>
              <a:t>R-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228200">
            <a:off x="5716080" y="6305040"/>
            <a:ext cx="807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4702680" y="4727520"/>
            <a:ext cx="1386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gular 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99600">
            <a:off x="7697520" y="600048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1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6520" y="44956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thing: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inematic information to class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2880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3848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racking: Stepw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59200" y="2133720"/>
            <a:ext cx="3964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Load image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Adjust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djust head and tail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Track - check curvatur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Setup behavioral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Analy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oading an image stack</a:t>
            </a:r>
            <a:br>
              <a:rPr sz="1800"/>
            </a:b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Selecting current video direct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38400" y="2133720"/>
            <a:ext cx="527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current video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Flote checks it contains suitabl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Loads the first image in th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ts it as the working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39840" y="5105520"/>
            <a:ext cx="588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onstation set: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\workshop_video\spont\t50_e0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Using the fold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8334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724440" cy="47624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28600" y="5334120"/>
            <a:ext cx="86104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: Browser seems to freeze after double clicking an imag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ution: Wait for a very long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: Browser doesn't actually select the directory prope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ution: Close zoom window and plot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4382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1. Computational identification of maneu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2. High throughput behavioral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oading an image stack</a:t>
            </a:r>
            <a:br>
              <a:rPr sz="1800"/>
            </a:b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Selecting current video direct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086520" y="1476360"/>
            <a:ext cx="2276280" cy="1590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962520" y="2133720"/>
            <a:ext cx="20574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7680" y="1674720"/>
            <a:ext cx="403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is is successful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hows the current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First image appears in the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Dialog window shows 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6054840"/>
            <a:ext cx="8229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: Fails because image naming convention is not _0000.j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ution: Toggle alphanumeric file or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3647880" cy="12189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11280" y="4129200"/>
            <a:ext cx="36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not successful then mes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600" y="4324320"/>
            <a:ext cx="19810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oading an image stack</a:t>
            </a:r>
            <a:br>
              <a:rPr sz="1800"/>
            </a:b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Loading the first group of fram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760" y="1676520"/>
            <a:ext cx="84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e you have a current video directory load the first set of fram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400400" cy="18860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513000" y="6140520"/>
            <a:ext cx="594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: Flote always refers to the first frame as fram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 THOUGH!!! Photron will call it _00001.j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6880" y="5195880"/>
            <a:ext cx="80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directory contains only 1 trial, you can just use 'Load Whole Directory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980720" y="312408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2940120"/>
            <a:ext cx="452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ends on your experim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9 : for startle res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99 : for normal swi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99 : for dark flash res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1876680" cy="14572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oading an image stack</a:t>
            </a:r>
            <a:br>
              <a:rPr sz="1800"/>
            </a:b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Loading subsequent sets of frames from same st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733840" y="2371680"/>
            <a:ext cx="50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load next/prev sets of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1875960" y="253368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609480" y="3581280"/>
            <a:ext cx="1362240" cy="18669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733840" y="4648320"/>
            <a:ext cx="50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load a given trial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g: entering 10 here would load 1000-10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476000" y="4848120"/>
            <a:ext cx="12668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6054840"/>
            <a:ext cx="822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p: frame numbers and trial number are down the bottom left cor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1486080" cy="21621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oading an image stack</a:t>
            </a:r>
            <a:br>
              <a:rPr sz="1800"/>
            </a:b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Options during load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210492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tate/flip the image during loading.  You should not usually do th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828440" y="228600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1143000" cy="19526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048120" y="365616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image stacks with non-standard naming (eg non Photron / Redlake / DR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1981080" y="3276720"/>
            <a:ext cx="99072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Video Play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2266920" cy="6667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 flipV="1">
            <a:off x="1905120" y="3657600"/>
            <a:ext cx="990360" cy="138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511956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y backwards / forw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905120" y="3657600"/>
            <a:ext cx="2743200" cy="1371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33920" y="25909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t frame displa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952880" y="3276720"/>
            <a:ext cx="152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3105000"/>
            <a:ext cx="403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ow every Nth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valuable for making vid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g Original recording: 1000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t playback a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utput is 200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t movie maker to 25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movie is 8 seconds 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riginal is 1 second 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o your movie is 8x sl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2895480"/>
            <a:ext cx="0" cy="381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52680" y="2133720"/>
            <a:ext cx="0" cy="1295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1752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de to pick a given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djusting the frame</a:t>
            </a:r>
            <a:br>
              <a:rPr sz="1800"/>
            </a:b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Removing unwanted contrast elem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1828800" cy="9241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210360" y="38098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152280" y="38098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3181320" y="38098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52280" y="34290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me (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00400" y="3429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dius (circ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3429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0" y="1447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me and Radi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exclude particles outside the b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213192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tracks only the most 'fish-like' object in each 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ecessary for tracking in a 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removes false fish produces by grid contr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nding head and eye posi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22525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xperiment with Noise Size, Object Size and Bandpass bu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xperiment with Diameter,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xperiment wit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spl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ead 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est the eye find parameters [density '400' = 4 on slide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480" y="6054840"/>
            <a:ext cx="822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p: Restore the default settings with Configuration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e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nding body curva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6002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xperiment with segment length sl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518148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For normal tracking, never adjust segments=3 or max bend=2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im to get the first bar at end of swim bla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ip of tail is usually not trackable (contrast / vertica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800600" y="2133720"/>
            <a:ext cx="2390760" cy="2638440"/>
            <a:chOff x="4800600" y="2133720"/>
            <a:chExt cx="2390760" cy="2638440"/>
          </a:xfrm>
        </p:grpSpPr>
        <p:pic>
          <p:nvPicPr>
            <p:cNvPr id="319" name="" descr=""/>
            <p:cNvPicPr/>
            <p:nvPr/>
          </p:nvPicPr>
          <p:blipFill>
            <a:blip r:embed="rId1"/>
            <a:stretch/>
          </p:blipFill>
          <p:spPr>
            <a:xfrm>
              <a:off x="4800600" y="2133720"/>
              <a:ext cx="239076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 flipV="1">
              <a:off x="6248520" y="35049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905120" y="2133720"/>
            <a:ext cx="2400120" cy="2638440"/>
            <a:chOff x="1905120" y="2133720"/>
            <a:chExt cx="2400120" cy="263844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1905120" y="2133720"/>
              <a:ext cx="240012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 flipV="1">
              <a:off x="3353040" y="35049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1380960" cy="27147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tup to tracking algorith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2209680"/>
            <a:ext cx="1647720" cy="495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2971800"/>
            <a:ext cx="1647720" cy="79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14600" y="22860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/adjust head finding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31384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/adj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vature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66880" y="4800600"/>
            <a:ext cx="2895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in doubt u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rapid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follow e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rient line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low contr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tup to tracking algorithms </a:t>
            </a:r>
            <a:br>
              <a:rPr sz="1800"/>
            </a:b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Head find op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1380960" cy="27147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33520" y="2209680"/>
            <a:ext cx="1647720" cy="495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16002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ocker algorithm for mass particle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Ignore, its s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Future potential for mass (1000s)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274176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larva sometimes loses contr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g Fast movement or stimulus artif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When particle lost, Flote reduces density thre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Can be very very slow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676520" y="18288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52480" y="2438280"/>
            <a:ext cx="1447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43120" y="2619360"/>
            <a:ext cx="14572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76720" y="42958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larva moves very fast, expands search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Normal: 50 pixel squ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road: 100 pixel squ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More useful for xya analysis at 25 f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te: Rapid quantification of maneu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20800" y="106668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7240" y="2971800"/>
            <a:ext cx="22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Arial"/>
              </a:rPr>
              <a:t>You: Record 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97080" y="2971800"/>
            <a:ext cx="30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lote: Compute curvatu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8240" y="598788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atchan: Classify maneu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7440" y="598788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isto:Statistical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419800" y="990720"/>
            <a:ext cx="1981080" cy="1819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305320" y="4343400"/>
            <a:ext cx="2210040" cy="1568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676520" y="4354560"/>
            <a:ext cx="1947600" cy="1589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86200" y="1981080"/>
            <a:ext cx="685800" cy="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3581280"/>
            <a:ext cx="0" cy="68580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5334120"/>
            <a:ext cx="685800" cy="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tup to tracking algorithms </a:t>
            </a:r>
            <a:br>
              <a:rPr sz="1800"/>
            </a:b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Eye find op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1380960" cy="27147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33520" y="3162240"/>
            <a:ext cx="1647720" cy="16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19520" y="176220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checked, looks for eye positions throughput the video sequence, not just in the first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Useful for measuring locomotor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276720" y="3209760"/>
            <a:ext cx="904680" cy="9050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4648320" y="3209760"/>
            <a:ext cx="904680" cy="9050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6095880" y="3209760"/>
            <a:ext cx="905040" cy="9050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819520" y="444816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ptional because it does slow tracking down by about 25%, so if this is an issue and you don't care about balance, turn o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tup to tracking algorithms </a:t>
            </a:r>
            <a:br>
              <a:rPr sz="1800"/>
            </a:b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Curvature find op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1380960" cy="27147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523800" y="2933640"/>
            <a:ext cx="1648080" cy="495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2971800" y="2558880"/>
            <a:ext cx="2381400" cy="22482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5486400" y="2558880"/>
            <a:ext cx="2381400" cy="22482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210200" y="2558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71800" y="1568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 density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for very high contrast 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ften better for star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114800" y="3559320"/>
            <a:ext cx="209520" cy="29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62520" y="4768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density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usually more rel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26708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1911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tup to tracking algorithms </a:t>
            </a:r>
            <a:br>
              <a:rPr sz="1800"/>
            </a:b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Curvature find op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85800" y="1704960"/>
            <a:ext cx="1380960" cy="27147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23800" y="3038400"/>
            <a:ext cx="1648080" cy="676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2971800" y="2558880"/>
            <a:ext cx="2381400" cy="22482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5486400" y="2558880"/>
            <a:ext cx="2381400" cy="22482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210200" y="2558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71800" y="1568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Point dens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for very high contrast 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ften better for star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114800" y="3559320"/>
            <a:ext cx="209520" cy="29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62520" y="47689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Line dens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usually more rel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generally used with '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low contr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' o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26708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2120" y="6064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Ellip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for tracking eye movement in high res. 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Overlapping cont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for tracking blobs (f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914400" y="1843200"/>
            <a:ext cx="6867360" cy="17715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r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438280" y="2909520"/>
            <a:ext cx="0" cy="160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57400" y="4586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400800" y="2909520"/>
            <a:ext cx="0" cy="160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19920" y="4586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5826240"/>
            <a:ext cx="784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p: If you are loading, tracking and analyzing many videos manually, then use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ck on load fe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save clicking the bu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rack</a:t>
            </a:r>
            <a:br>
              <a:rPr sz="2000"/>
            </a:b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Track on load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809880" y="1523880"/>
            <a:ext cx="1486080" cy="21621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 flipV="1">
            <a:off x="4495680" y="3352680"/>
            <a:ext cx="0" cy="1371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00400" y="487692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ggle so that loading a frame set causes Flote to automatically track it (without having to press Tr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alyze tr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143760" cy="48481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438280" y="2514600"/>
            <a:ext cx="2210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nnotate 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4600" y="5410080"/>
            <a:ext cx="35053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Kinematics an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2514600"/>
            <a:ext cx="22096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ime Series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29200" y="4038480"/>
            <a:ext cx="22096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ime Series P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alyze trial</a:t>
            </a:r>
            <a:br>
              <a:rPr sz="2000"/>
            </a:b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nnotating the video wind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209680" y="220968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ggle options on/off [experim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lly the first six are che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1162080" cy="34387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457200" y="2209680"/>
            <a:ext cx="1647720" cy="14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" y="6253200"/>
            <a:ext cx="876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: None of these options affect kinematic analysis - they are display onl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3933720"/>
            <a:ext cx="1647720" cy="914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47920" y="53341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495144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pies all display updates to 'C:\ftrack\images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very useful for making annotated 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remember to turn off when don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racking and display</a:t>
            </a:r>
            <a:br>
              <a:rPr sz="2000"/>
            </a:b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aving the configu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209680" y="2209680"/>
            <a:ext cx="6172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quently used tracking/display configurations can be saved and will then appear in the drop-down me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give the configuration a memorable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config files are in c:\ftrack\track_confi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newly saved configurations only appear in the dropdown menu after you re-open Flo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Default is created by flote_setup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1295280" cy="11523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485640" y="2895480"/>
            <a:ext cx="16480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71600" y="3124080"/>
            <a:ext cx="0" cy="25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4920" y="5826240"/>
            <a:ext cx="8610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p: The config file called 'Default' is loaded when Flote opens.  You can write your preferred configuration over this by saving with the name 'Default'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alyze trial</a:t>
            </a:r>
            <a:br>
              <a:rPr sz="2000"/>
            </a:b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Opening a zoom wind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429000" y="182880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For a zoom of user defin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Hold down right mouse button and drag inside the display wind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rea is then displayed in zoom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Zoom magnification depends on x-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e drag a little horizontally, large zoo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685800" y="1943280"/>
            <a:ext cx="2124000" cy="35431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3505320" y="411480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For a zoom of defined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Select 100x or 200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Hold right mouse button at top le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rag across display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alyze trial</a:t>
            </a:r>
            <a:br>
              <a:rPr sz="2000"/>
            </a:b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electing a larva for time series analy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962520" y="444816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Annotation 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urns highlighting circle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locks annotate of other larv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lected larva is horizontal in zoom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2448000" cy="34862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2819520" y="40384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19520" y="41911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1905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Selecting a larva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Left cl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ear its he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Larva selected becomes circl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01608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Zoom selected larva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Right cl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 sc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Zoom is always centered on selected lar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Uncheck to turn feature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819520" y="4362480"/>
            <a:ext cx="1143000" cy="10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828880" y="3762360"/>
            <a:ext cx="117180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te: Rapid quantification of maneuvers</a:t>
            </a:r>
            <a:br>
              <a:rPr sz="2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 grou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00600" y="12193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4952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timulus, save 20 video sequenc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ose each larvae to 5 stimuli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 larvae in groups of 30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000 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iment contains 10 group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,000 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5029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6477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6213600"/>
            <a:ext cx="72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= 10... but each is the average of 300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alyze trial</a:t>
            </a:r>
            <a:br>
              <a:rPr sz="2400"/>
            </a:b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Time series analy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523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ing a larva automatically opens the 'time series' window for frame by frame measurement of the selected lar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86400" y="52578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cking on a cell updates to the corresponding frame number in the video wind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466704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alyze trial</a:t>
            </a:r>
            <a:br>
              <a:rPr sz="2400"/>
            </a:b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Time series analy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" y="3809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rt contents of time series window to Excel (tab-separated fi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if selected file exists, data is appended, not overwit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1685880" cy="12193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704880" y="2419200"/>
            <a:ext cx="164772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096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080" y="5867280"/>
            <a:ext cx="8153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p: Limited screen real estate?  Us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ind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de Time S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43200" y="23623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which subset of parameters to display in the time series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762120" y="4495680"/>
            <a:ext cx="1257120" cy="5335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781360" y="45864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mits which frames are expo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2666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alyze trial</a:t>
            </a:r>
            <a:br>
              <a:rPr sz="2400"/>
            </a:b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Graphical time series analy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1886040" cy="8380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3429000" y="1828800"/>
            <a:ext cx="4791240" cy="2133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25146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" y="4572000"/>
            <a:ext cx="83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ot button opens graphical interface to explore time series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Updated when you select a new lar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Click on new column in time series window to select new plot par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ft click in plot window updates the display fram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ft drag in plot window calculates the grad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" y="3124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 X and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0968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2388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alyze trial</a:t>
            </a:r>
            <a:br>
              <a:rPr sz="2400"/>
            </a:b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Kinematic and behavioral analy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05240" y="23144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57400" y="5486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euver id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19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33320" y="2809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1876680" cy="7905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4479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3505320" y="2133720"/>
            <a:ext cx="4238640" cy="296208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5562720" y="5486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in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6200000">
            <a:off x="6134040" y="3619080"/>
            <a:ext cx="228600" cy="3352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43280" y="2152800"/>
            <a:ext cx="53316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3886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... more about this l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alyze trial</a:t>
            </a:r>
            <a:br>
              <a:rPr sz="2400"/>
            </a:b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Kinematic and behavioral analy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5240" y="23144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057400" y="5486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euver id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619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33320" y="2809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1876680" cy="7905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4479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3505320" y="2133720"/>
            <a:ext cx="4238640" cy="2962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5562720" y="5486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in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6134040" y="3619080"/>
            <a:ext cx="228600" cy="3352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43280" y="2152800"/>
            <a:ext cx="53316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alyze trial</a:t>
            </a:r>
            <a:br>
              <a:rPr sz="2400"/>
            </a:b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Maneuver identif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137680" y="1567800"/>
            <a:ext cx="4760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euvers ident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hort Latency C-b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Long Latency C-b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Routine tu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ur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-b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low forward swi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Fast forward sw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-B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J-B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w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Movement initiated before sti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tatio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xclude - not suitable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685800" y="1685880"/>
            <a:ext cx="1047600" cy="29624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533520" y="6176880"/>
            <a:ext cx="815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te can not yet recognize these maneuvers: Struggle, capture sw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alyze trial</a:t>
            </a:r>
            <a:br>
              <a:rPr sz="2400"/>
            </a:b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Kinematic analysis: c1 (first) b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2190600" y="1676520"/>
            <a:ext cx="2305080" cy="1807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8658360" cy="46101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3228840" y="2514600"/>
            <a:ext cx="0" cy="4191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438280" y="2514600"/>
            <a:ext cx="0" cy="4191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62320" y="1905120"/>
            <a:ext cx="0" cy="251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514600" y="2971800"/>
            <a:ext cx="609480" cy="0"/>
          </a:xfrm>
          <a:prstGeom prst="line">
            <a:avLst/>
          </a:prstGeom>
          <a:ln w="19080">
            <a:solidFill>
              <a:srgbClr val="cc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43200" y="190512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276360" y="1905120"/>
            <a:ext cx="1066680" cy="4114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alyze trial</a:t>
            </a:r>
            <a:br>
              <a:rPr sz="2400"/>
            </a:b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Kinematic analysis: c2 (counter) b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58360" cy="461016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228840" y="2514600"/>
            <a:ext cx="0" cy="4191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67080" y="2514600"/>
            <a:ext cx="0" cy="4191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76720" y="2971800"/>
            <a:ext cx="914400" cy="0"/>
          </a:xfrm>
          <a:prstGeom prst="line">
            <a:avLst/>
          </a:prstGeom>
          <a:ln w="19080">
            <a:solidFill>
              <a:srgbClr val="cc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09880" y="1828800"/>
            <a:ext cx="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267080" y="1828800"/>
            <a:ext cx="609840" cy="2590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15242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alyze trial</a:t>
            </a:r>
            <a:br>
              <a:rPr sz="2400"/>
            </a:b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Kinematic analysis: tailfl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58360" cy="461016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876920" y="2514600"/>
            <a:ext cx="0" cy="419112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267080" y="2514600"/>
            <a:ext cx="0" cy="419112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cc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343400" y="1828800"/>
            <a:ext cx="22860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4647960" y="1828800"/>
            <a:ext cx="75960" cy="2743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1143000" cy="16200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5486400" y="2514600"/>
            <a:ext cx="0" cy="419112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172200" y="2514600"/>
            <a:ext cx="0" cy="419112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629400" y="2514600"/>
            <a:ext cx="0" cy="419112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62920" y="2514600"/>
            <a:ext cx="0" cy="419112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421520" y="5576760"/>
            <a:ext cx="307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31000" y="5576760"/>
            <a:ext cx="307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710680" y="5576760"/>
            <a:ext cx="307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250320" y="5576760"/>
            <a:ext cx="307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77360" y="5576760"/>
            <a:ext cx="307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0" y="4419720"/>
            <a:ext cx="0" cy="914400"/>
          </a:xfrm>
          <a:prstGeom prst="line">
            <a:avLst/>
          </a:prstGeom>
          <a:ln w="19080">
            <a:solidFill>
              <a:srgbClr val="cc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3048120"/>
            <a:ext cx="457200" cy="0"/>
          </a:xfrm>
          <a:prstGeom prst="line">
            <a:avLst/>
          </a:prstGeom>
          <a:ln w="19080">
            <a:solidFill>
              <a:srgbClr val="cc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562720" y="2971800"/>
            <a:ext cx="533160" cy="0"/>
          </a:xfrm>
          <a:prstGeom prst="line">
            <a:avLst/>
          </a:prstGeom>
          <a:ln w="19080">
            <a:solidFill>
              <a:srgbClr val="cc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48520" y="3048120"/>
            <a:ext cx="304560" cy="0"/>
          </a:xfrm>
          <a:prstGeom prst="line">
            <a:avLst/>
          </a:prstGeom>
          <a:ln w="19080">
            <a:solidFill>
              <a:srgbClr val="cc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05720" y="2971800"/>
            <a:ext cx="457200" cy="0"/>
          </a:xfrm>
          <a:prstGeom prst="line">
            <a:avLst/>
          </a:prstGeom>
          <a:ln w="19080">
            <a:solidFill>
              <a:srgbClr val="cc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34120" y="4343400"/>
            <a:ext cx="0" cy="990720"/>
          </a:xfrm>
          <a:prstGeom prst="line">
            <a:avLst/>
          </a:prstGeom>
          <a:ln w="19080">
            <a:solidFill>
              <a:srgbClr val="cc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19920" y="4343400"/>
            <a:ext cx="0" cy="609480"/>
          </a:xfrm>
          <a:prstGeom prst="line">
            <a:avLst/>
          </a:prstGeom>
          <a:ln w="19080">
            <a:solidFill>
              <a:srgbClr val="cc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77120" y="4343400"/>
            <a:ext cx="0" cy="609480"/>
          </a:xfrm>
          <a:prstGeom prst="line">
            <a:avLst/>
          </a:prstGeom>
          <a:ln w="19080">
            <a:solidFill>
              <a:srgbClr val="cc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34320" y="4343400"/>
            <a:ext cx="0" cy="380880"/>
          </a:xfrm>
          <a:prstGeom prst="line">
            <a:avLst/>
          </a:prstGeom>
          <a:ln w="19080">
            <a:solidFill>
              <a:srgbClr val="cc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62520" y="57913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3962520" y="1752120"/>
            <a:ext cx="0" cy="4038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alyze trial</a:t>
            </a:r>
            <a:br>
              <a:rPr sz="2400"/>
            </a:b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Kinematic analysis: Larvae exclud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1904760" cy="1429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87600" y="3048120"/>
            <a:ext cx="7279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_sw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Frame # where larva started mo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_o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Frame # where error detected in curvature fin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_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Frame # where larva too close to image 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_t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Frame # where position tracking error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y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Number of eyes found (error if not in correct 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lote workshop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057400"/>
            <a:ext cx="6629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0. Overview of behavioral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mage acquisition and storage (workshop and dem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2. Flote: Single even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3/4. Flote / Batchan: Batch tracking and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5. Histo: Explor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6. Misc., questions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lote workshop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19320" y="2057400"/>
            <a:ext cx="6629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0. Overview of behavioral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1. Image acquisition and storage (workshop and dem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2. Flote: Single even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/4. Flote / Batchan: Batch tracking and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5. Histo: Explor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6. Misc., questions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200400" y="1600200"/>
            <a:ext cx="4495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jus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ext: Load next set of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Track: Track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nalyze: Get behavior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Copy to spreadshe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would be tedio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 tracking overview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Analyzing thousands of trials - manual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1981080" cy="46195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371600" y="25146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0" y="2590920"/>
            <a:ext cx="0" cy="32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1219320" y="2590560"/>
            <a:ext cx="914400" cy="3352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 tracking overview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Analyzing thousands of trials - in batch m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1981080" cy="46195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590920" y="251460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43000" y="2057400"/>
            <a:ext cx="1066680" cy="5335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929" y="10800"/>
                </a:moveTo>
                <a:arcTo wR="-8871" hR="-8871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636" y="14465"/>
                </a:lnTo>
                <a:lnTo>
                  <a:pt x="16971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10800000">
            <a:off x="1218960" y="2438280"/>
            <a:ext cx="1066680" cy="5335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929" y="10800"/>
                </a:moveTo>
                <a:arcTo wR="-8871" hR="-8871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636" y="14465"/>
                </a:lnTo>
                <a:lnTo>
                  <a:pt x="16971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3467160" y="2209680"/>
            <a:ext cx="2019240" cy="40197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429000" y="1523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ad video, track, save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tracking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486400" y="39625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477120" y="3733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ze tracking files in batch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 tracking overview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Tracking fi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3886200" y="2209680"/>
            <a:ext cx="4286160" cy="38293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1409760" cy="27622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838080" y="411480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1828800" y="2742840"/>
            <a:ext cx="198108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298680" y="1447920"/>
            <a:ext cx="55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es tab-separated text files (Excel read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files are in c:\ftrack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5295240" y="5676840"/>
            <a:ext cx="152640" cy="99036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5400000">
            <a:off x="7352640" y="5676840"/>
            <a:ext cx="152640" cy="99036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01320" y="63244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816240" y="63244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v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62120" y="4952880"/>
            <a:ext cx="28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king files are named track_XXXX_e##.sa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not easily read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1141920" y="1981080"/>
            <a:ext cx="625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Adjust configuration by manually tracking a few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2. Setup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Flot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 batch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3. Run batch tracking until all video is tra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4. Setup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Batcha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 to analyze the tracking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5. Analyze data using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Hist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 tracking overview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Analyzing thousands of trials - quick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Flote batc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tracking functio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tting up the tracking configur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22800" y="2228760"/>
            <a:ext cx="620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ually load and track first few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 that it looks good by analyzing several larv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e configuration works nicely, save it as a confi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1676520" y="4362480"/>
            <a:ext cx="1419120" cy="10476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533400" y="449568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figure batch tracking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47960" y="4707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141920" y="1981080"/>
            <a:ext cx="625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1. Adjust configuration by manually tracking a few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Setup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atch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3. Run batch tracking until all video is tra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4. Setup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Batcha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 to analyze the tracking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5. Analyze data using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Hist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 tracking overview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Analyzing thousands of tri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Flote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batch tracking functio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Preparing to batch track - input fold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3457800" cy="21621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4156200" y="1720800"/>
            <a:ext cx="43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directory containing a set of folders each with a video image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470400" y="199872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57400" y="2362320"/>
            <a:ext cx="20574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56200" y="2513160"/>
            <a:ext cx="498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of the experi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ries to remember based on the folder name  'xxxx_P/D01_xxxx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wi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uesses 120 or 400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9480" y="441972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Example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Collect 120 frames for each of 40 startle stimuli = 4800 f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hould read 'each with 40 events of 120 frames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Example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Collect 8 seconds of continuous recording during opto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lan to analyze in 400 ms wind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hould read 'each with 20 events of 400 frames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Flote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batch tracking functio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Preparing to batch track - output fold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457800" cy="21621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 flipV="1">
            <a:off x="990720" y="2209680"/>
            <a:ext cx="320040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267080" y="1981080"/>
            <a:ext cx="430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: creates output directory named after the video directory, but in the tracking fol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523880" y="3200400"/>
            <a:ext cx="26672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267080" y="3046320"/>
            <a:ext cx="430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a target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needs to be manually cre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Flote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batch tracking functio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Preparing to batch track - other op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28600" y="6253200"/>
            <a:ext cx="876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Experiment with setting up batch track for all folders in workshop_video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457800" cy="216216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 flipV="1">
            <a:off x="3581280" y="2209320"/>
            <a:ext cx="60984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08480" y="1981080"/>
            <a:ext cx="43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ter: Only open video folders that match this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514600" y="3581280"/>
            <a:ext cx="1828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308480" y="3381480"/>
            <a:ext cx="43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oose a tracking confi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if none selected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perates without changing the parameters in the main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40240" y="41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5260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82132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834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8360" y="304920"/>
            <a:ext cx="59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Image acquistion and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4720" y="2286000"/>
            <a:ext cx="5115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age acquisition - setting up a nice sh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deo acquisition - selecting a time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ing image stacks - optimizing 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1141920" y="1981080"/>
            <a:ext cx="625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1. Adjust configuration by manually tracking a few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2. Setup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Flot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 batch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Run batch tracking until all video is tra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4. Setup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Batcha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 to analyze the tracking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5. Analyze data using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Hist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 tracking overview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Analyzing thousands of tri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Flote batc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tracking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428760" y="1389240"/>
            <a:ext cx="1419120" cy="10476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2286000" y="13240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batch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k to have multiple instance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k to use multiple computers in parallel so long as they point to a common network shared tracks f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60020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12960" y="3657600"/>
            <a:ext cx="1158840" cy="916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m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18080" y="2971800"/>
            <a:ext cx="1158840" cy="916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ab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46880" y="3659040"/>
            <a:ext cx="1158840" cy="916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32280" y="3735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937040" y="37353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18080" y="4268880"/>
            <a:ext cx="1158840" cy="916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ab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32280" y="4497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937040" y="4497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32280" y="41162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Flote batc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tracking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971800" cy="13618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3176640" y="202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6200" y="18432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t folder and position in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76640" y="2257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86200" y="20718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ess in this folder (inaccurate if tracking while experiment still ru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480" y="4157640"/>
            <a:ext cx="73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tch for 'incomplete' errors in the ma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indow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rror in file or folder n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till being sa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Camera is not recording as many frames as you think it 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Flote batc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tracking function</a:t>
            </a:r>
            <a:br>
              <a:rPr sz="1800"/>
            </a:b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Knowing when to st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2971800" cy="13618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581280" y="274464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590920" y="37339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it immedi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2895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495144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 until all video is tracked, then search for any new video added that has not been tracked.  Scans through all video folders and check all trials have a corresponding track_xxxx_.sav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57400" y="2895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05120" y="42670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for Run, but quit if no new video for an h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6688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733920" y="256716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 until all video is tracked, then q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09480" y="2514600"/>
            <a:ext cx="304812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09880" y="13716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ver to select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atience!  very slow respons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286000" y="1600200"/>
            <a:ext cx="152388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2520" y="6405480"/>
            <a:ext cx="8145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p: Do not Run all night because this is not so good for your hard dr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141920" y="1981080"/>
            <a:ext cx="625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1. Adjust configuration by manually tracking a few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2. Setup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Flot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 batch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3. Run batch tracking until all video is tra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Setup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tch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analyze the tracking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5. Analyze data using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Hist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 tracking overview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Analyzing thousands of tri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: analyzing track.sav files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Example experi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480" y="1676520"/>
            <a:ext cx="7925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- Test the effect of hot water on spontaneous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control plates (add 28C wa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test plates (add 40C wa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each plate once like th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2120" y="411624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14560" y="412596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65200" y="413388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816200" y="41418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168640" y="415116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519280" y="4159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70280" y="416736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222720" y="41767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73360" y="418464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924360" y="419256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76800" y="420228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627440" y="42102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78440" y="42181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30880" y="422748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681520" y="42354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032520" y="424332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84960" y="425304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35600" y="426096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086600" y="426888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5400000">
            <a:off x="2515320" y="3582000"/>
            <a:ext cx="74520" cy="3581280"/>
          </a:xfrm>
          <a:custGeom>
            <a:avLst/>
            <a:gdLst>
              <a:gd name="textAreaLeft" fmla="*/ 0 w 74520"/>
              <a:gd name="textAreaRight" fmla="*/ 52200 w 74520"/>
              <a:gd name="textAreaTop" fmla="*/ 149040 h 3581280"/>
              <a:gd name="textAreaBottom" fmla="*/ 343224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5400000">
            <a:off x="6172920" y="3582000"/>
            <a:ext cx="74520" cy="3581280"/>
          </a:xfrm>
          <a:custGeom>
            <a:avLst/>
            <a:gdLst>
              <a:gd name="textAreaLeft" fmla="*/ 0 w 74520"/>
              <a:gd name="textAreaRight" fmla="*/ 52200 w 74520"/>
              <a:gd name="textAreaTop" fmla="*/ 149040 h 3581280"/>
              <a:gd name="textAreaBottom" fmla="*/ 343224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143000" y="5486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line (4 s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952880" y="5486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ponse (4 s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381560" y="5390640"/>
            <a:ext cx="0" cy="62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933640" y="6019920"/>
            <a:ext cx="2895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the 28 or 50 C 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: analyzing track.sav files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Combining tracking fi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1533600" cy="49528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2286000" y="2743200"/>
            <a:ext cx="0" cy="3124080"/>
          </a:xfrm>
          <a:prstGeom prst="line">
            <a:avLst/>
          </a:prstGeom>
          <a:ln w="28440">
            <a:solidFill>
              <a:srgbClr val="66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590920" y="167652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plate was recorded for 4 seconds before test water added, then 4 seconds after water added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ach 4 seconds was tracked as ten 400 ms long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we have 20 tracking files for each pl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77440" y="4075200"/>
            <a:ext cx="571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Plate 1: Folder was t028_00a so tracking files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track_t028_00a_e00 to track_t028_00a_e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364840" y="6172200"/>
            <a:ext cx="32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late 2: Folder was t028_0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60199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Combining tracking fi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1533600" cy="495288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2286000" y="2743200"/>
            <a:ext cx="0" cy="1523880"/>
          </a:xfrm>
          <a:prstGeom prst="line">
            <a:avLst/>
          </a:prstGeom>
          <a:ln w="28440">
            <a:solidFill>
              <a:srgbClr val="b2b2b2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81200" y="1619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plate tracking files e00-e09 contain baseline movement, e10-e19 contain stimulus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64480" y="403848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  <a:ea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363400" y="57294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Sti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286000" y="4419720"/>
            <a:ext cx="0" cy="152388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Combining tracking fi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1533600" cy="495288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2286000" y="2743200"/>
            <a:ext cx="0" cy="1523880"/>
          </a:xfrm>
          <a:prstGeom prst="line">
            <a:avLst/>
          </a:prstGeom>
          <a:ln w="28440">
            <a:solidFill>
              <a:srgbClr val="b2b2b2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073520" y="3276720"/>
            <a:ext cx="111960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590920" y="1676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stion 1: How frequently do larvae initiate different maneuvers during baseline and stimulus condi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90920" y="2666880"/>
            <a:ext cx="655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ad all 10 tracking files (e00-e09), run the behavior analysis routine and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Count total number of analyzable larv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Count number of Scoot, Turn, J-bend etc occ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Scoot = 100 x [total # scoots observed] / [total # larva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Turn = 100 x [total # turns observed] / [total # larva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Jbend = 100 x [total # jbends observed] / [total # larva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590920" y="5943600"/>
            <a:ext cx="63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: in this case there are 10 trials per s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tting up batch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305320" cy="386712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228600" y="61102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Demonstration - analyze the tracks in the workshop_tracks folde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520" y="304920"/>
            <a:ext cx="361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Image ac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Larval imag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876560" cy="4876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38760" y="914400"/>
            <a:ext cx="2857320" cy="2857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1" name=""/>
          <p:cNvSpPr/>
          <p:nvPr/>
        </p:nvSpPr>
        <p:spPr>
          <a:xfrm>
            <a:off x="7238880" y="9144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6545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aging a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12x512 pix = 35x3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274320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v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 5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305320" cy="386712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981080" y="2266920"/>
            <a:ext cx="5096160" cy="2383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981080" y="2552760"/>
            <a:ext cx="5096160" cy="23796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81080" y="2838600"/>
            <a:ext cx="3810240" cy="237960"/>
          </a:xfrm>
          <a:prstGeom prst="rect">
            <a:avLst/>
          </a:prstGeom>
          <a:solidFill>
            <a:srgbClr val="00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81080" y="3114720"/>
            <a:ext cx="3343320" cy="1047600"/>
          </a:xfrm>
          <a:prstGeom prst="rect">
            <a:avLst/>
          </a:pr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410080" y="3114720"/>
            <a:ext cx="1714680" cy="1047600"/>
          </a:xfrm>
          <a:prstGeom prst="rect">
            <a:avLst/>
          </a:prstGeom>
          <a:solidFill>
            <a:srgbClr val="ff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981080" y="4181400"/>
            <a:ext cx="5124600" cy="399960"/>
          </a:xfrm>
          <a:prstGeom prst="rect">
            <a:avLst/>
          </a:prstGeom>
          <a:solidFill>
            <a:srgbClr val="66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81080" y="4629240"/>
            <a:ext cx="198144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81080" y="5010120"/>
            <a:ext cx="2819520" cy="3999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216920" y="22096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nput f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207200" y="2495520"/>
            <a:ext cx="16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  <a:ea typeface="Arial"/>
              </a:rPr>
              <a:t>Output f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987120" y="27576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-17640" y="342900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  <a:ea typeface="Arial"/>
              </a:rPr>
              <a:t>Analysis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260120" y="34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Image sub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240680" y="42051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Trial sub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37960" y="45864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  <a:ea typeface="Arial"/>
              </a:rPr>
              <a:t>Gr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06040" y="550080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Star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lecting input fold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5143680" cy="37152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1066680" y="2209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30481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wse to a folder containing a stack of track_XXXX.sav f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334120" y="2209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343400" y="304812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include tracking files which match this field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: Tracking files are named track_con_00a.sa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k_con_01a.sa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k_con_02a.sa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k_exp_00a.sa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k_exp_01a.sa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k_exp_02a.sa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 'con' in filter field to only analyze the control vide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lecting output fold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5114880" cy="32364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99072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57200" y="28195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w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f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780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648320" y="28195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checked, do not write over any files existing in the output folder, instead, add the new analysis results to the end of existing f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89548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05120" y="2819520"/>
            <a:ext cx="236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a sub-folder in the tracking fol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ally given prefix of the name of th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" y="5978520"/>
            <a:ext cx="8610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p: leave the output folder field blank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tch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ill create an output folder based on the number of trials per s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Naming the trial se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962520" y="152388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need to give this set a unique name in the output file.  The name is by default identical to the name of the first tracking file in the s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, for the set of tracking files starting wit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k_t028_00a_e00.sa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3228840" cy="2952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457200" y="5145120"/>
            <a:ext cx="3228840" cy="2952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457200" y="5689440"/>
            <a:ext cx="3228840" cy="29556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4"/>
          <a:stretch/>
        </p:blipFill>
        <p:spPr>
          <a:xfrm>
            <a:off x="457200" y="6234120"/>
            <a:ext cx="3228840" cy="2952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5"/>
          <a:stretch/>
        </p:blipFill>
        <p:spPr>
          <a:xfrm>
            <a:off x="457200" y="1523880"/>
            <a:ext cx="1533600" cy="269568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2057400" y="2666880"/>
            <a:ext cx="0" cy="1524240"/>
          </a:xfrm>
          <a:prstGeom prst="line">
            <a:avLst/>
          </a:prstGeom>
          <a:ln w="28440">
            <a:solidFill>
              <a:srgbClr val="b2b2b2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135880" y="32004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  <a:ea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044240" y="4510080"/>
            <a:ext cx="23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k_t028_00a_e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41720" y="511956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[all sets have the same name!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043520" y="5653080"/>
            <a:ext cx="22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  <a:ea typeface="Arial"/>
              </a:rPr>
              <a:t>base_t028_00a_e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043520" y="6172200"/>
            <a:ext cx="22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028_00a_e00_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09680" y="5638680"/>
            <a:ext cx="84391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Trials per s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581280" y="1523880"/>
            <a:ext cx="50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 many tracking files should be  combined into a single measurement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the example, it would be 10 trials per measur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times it is useful to use a smaller number, eg 1, 2, 5 - to see if there is a trend in the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ing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in this field combines all tracking files into a single s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1533600" cy="269568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2057400" y="5029200"/>
            <a:ext cx="0" cy="1523880"/>
          </a:xfrm>
          <a:prstGeom prst="line">
            <a:avLst/>
          </a:prstGeom>
          <a:ln w="28440">
            <a:solidFill>
              <a:srgbClr val="b2b2b2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135880" y="55627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  <a:ea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1228680" cy="14000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457200" y="2895480"/>
            <a:ext cx="137160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828800" y="1752480"/>
            <a:ext cx="167652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Using subsets of tri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1533600" cy="495288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2286000" y="2743200"/>
            <a:ext cx="0" cy="1523880"/>
          </a:xfrm>
          <a:prstGeom prst="line">
            <a:avLst/>
          </a:prstGeom>
          <a:ln w="28440">
            <a:solidFill>
              <a:srgbClr val="b2b2b2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364480" y="403848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  <a:ea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363400" y="57294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Sti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86000" y="4419720"/>
            <a:ext cx="0" cy="152388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5238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baseline activity, we only want to analyze tracking files 00-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3657600" y="2286000"/>
            <a:ext cx="3238560" cy="4287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3"/>
          <a:stretch/>
        </p:blipFill>
        <p:spPr>
          <a:xfrm>
            <a:off x="3657600" y="2819520"/>
            <a:ext cx="3238560" cy="42840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7010280" y="228600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182000" y="2581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657600" y="3790800"/>
            <a:ext cx="50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field is blank, batchan will go through the whole directory and clump tracking files according to the number of trials per set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g.  Trials per set =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k_t028_00a_e00 .... track_t028_00a_e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k_t028_00a_e10 .... track_t028_00a_e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k_t028_01a_e00 .... track_t028_00a_e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Using subsets of tri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057400" y="1676520"/>
            <a:ext cx="7086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so useful when stimuli are in a pseudorandom or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 the string once into the trial number field, then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i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ve Subs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have it saved in the dropdown me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but it only appears next time you open batcha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ve the trial subset an easy to remember nam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sequently just select the name from the dropdown menu and the sequence is entered into the trial numbers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1143000" cy="34099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895480" y="4676760"/>
            <a:ext cx="3238560" cy="42876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1676520" y="4991040"/>
            <a:ext cx="2590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5800" y="60339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 # and Odd # : enter 0,2,4,6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r 1,3,5,7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Using subsets of tri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143680" cy="41940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4476600" y="1914480"/>
            <a:ext cx="1314720" cy="23832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648320" y="220968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181480" y="220968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2819520"/>
            <a:ext cx="7086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experiment: baseline and stimulus, presented in a pseudorandom or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quick access presets for an experiment with 40 tria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Set:A - 0,3,5,6,7,11,12,15,16,18,20,21,22,25,28,30,33,34,35,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Set:B - 1,2,4,8,9,10,13,14,17,19,23,24,26,27,29,31,32,36,37,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695600" cy="76176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Analyzing individual fish in a gr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2133720" y="1905120"/>
            <a:ext cx="6094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16765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 grid size here 3x3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re are multiple fish in a grid element, batchan says no fish are found in that el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2"/>
          <a:stretch/>
        </p:blipFill>
        <p:spPr>
          <a:xfrm>
            <a:off x="4876920" y="3962520"/>
            <a:ext cx="2324160" cy="234288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3"/>
          <a:stretch/>
        </p:blipFill>
        <p:spPr>
          <a:xfrm>
            <a:off x="1676520" y="3990960"/>
            <a:ext cx="2295360" cy="2295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52" name=""/>
          <p:cNvSpPr/>
          <p:nvPr/>
        </p:nvSpPr>
        <p:spPr>
          <a:xfrm>
            <a:off x="1600200" y="6248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Real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00600" y="6248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Position in Fl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447920" y="3276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 how position correlates to number (depends on how camera inverts image and how software saves imag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695600" cy="761760"/>
          </a:xfrm>
          <a:prstGeom prst="rect">
            <a:avLst/>
          </a:prstGeom>
          <a:ln w="0">
            <a:noFill/>
          </a:ln>
        </p:spPr>
      </p:pic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: analyzing track.sav files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Analyzing individual fish in a gr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647720" y="2305080"/>
            <a:ext cx="0" cy="285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523880" y="2590920"/>
            <a:ext cx="723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ch fish to analyze.  NOT the same as the fish number given during tracking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 Refers to the grid pos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tchan automatically appends -f1, -f2 etc to the end of the name so you know which fish was analyz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38080" y="2286000"/>
            <a:ext cx="0" cy="2209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57200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 box to automatically go through the whole gri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tchan will enter 1, 2, 3, etc into the fish number box and analyze each grid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520" y="304920"/>
            <a:ext cx="361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Image ac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Contrast and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51814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th: don't allow larvae to dive/rise out of focu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lerant to a range of contrasts, lighting should be 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3048120"/>
            <a:ext cx="6629400" cy="1523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2666880"/>
            <a:ext cx="6629400" cy="152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2286000"/>
            <a:ext cx="6629400" cy="1523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1905120"/>
            <a:ext cx="6629400" cy="1523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: analyzing track.sav files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lect analysis algorith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1295280" cy="105732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1905120" y="2286000"/>
            <a:ext cx="1143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048120" y="21337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st for analyzing %S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905120" y="2438280"/>
            <a:ext cx="114300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048120" y="29782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st for analyzing everything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05120" y="2666880"/>
            <a:ext cx="121896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048120" y="38242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st for xya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600200" y="2895480"/>
            <a:ext cx="0" cy="2133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51814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shold value used by algorithm for scoring movement versus no movement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startle response analysis, best from 8-16 (depending on noisiness and resolu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2124000" cy="104796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: analyzing track.sav files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Open behavior parameters setu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666880" y="2543040"/>
            <a:ext cx="1905120" cy="1266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00200" y="289548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28600" y="3048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s current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6629400" y="1676520"/>
            <a:ext cx="1619280" cy="119052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2819520" y="3886200"/>
            <a:ext cx="3666960" cy="256212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 flipH="1">
            <a:off x="4571640" y="2057400"/>
            <a:ext cx="1981080" cy="175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Behavior parameters setu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667320" cy="256212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685800" y="2209680"/>
            <a:ext cx="3524400" cy="23832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76440" y="2933640"/>
            <a:ext cx="3524040" cy="23832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95160" y="3400560"/>
            <a:ext cx="3524400" cy="23796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876920" y="21337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ze subset of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876920" y="288144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gnore: for kinematic mu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876920" y="332424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gnore: for xya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343400" y="2333520"/>
            <a:ext cx="561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343400" y="3048120"/>
            <a:ext cx="561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343400" y="3505320"/>
            <a:ext cx="561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Behavior parameters setu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667320" cy="256212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685800" y="2457360"/>
            <a:ext cx="3524400" cy="23832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876920" y="238140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imulus time: for excluding larvae that are moving before the sti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343400" y="2581200"/>
            <a:ext cx="561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6248520" y="4876920"/>
            <a:ext cx="2800080" cy="16002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609480" y="4800600"/>
            <a:ext cx="5410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have no stimul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till set this to ~10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is needed to exclude larvae already moving at the beginning of the video wind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an't identify the maneuver without seeing the initi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Behavior parameters setu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667320" cy="256212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685800" y="3886200"/>
            <a:ext cx="3524400" cy="23796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00600" y="1749600"/>
            <a:ext cx="4295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um, Maximum number of eyes a particle can have to be identified as a larva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2,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normal setting, allows measuring turn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1,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include larvae with balance defect, a common mutant phenoty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4343400" y="2066760"/>
            <a:ext cx="447840" cy="194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533520" y="46623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3"/>
          <a:stretch/>
        </p:blipFill>
        <p:spPr>
          <a:xfrm>
            <a:off x="4946760" y="46623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4"/>
          <a:stretch/>
        </p:blipFill>
        <p:spPr>
          <a:xfrm>
            <a:off x="2806560" y="46623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5"/>
          <a:stretch/>
        </p:blipFill>
        <p:spPr>
          <a:xfrm>
            <a:off x="7086600" y="4662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28195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822400" y="64911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alance de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254920" y="649116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oll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26520" y="64911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hmu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667320" cy="2571480"/>
          </a:xfrm>
          <a:prstGeom prst="rect">
            <a:avLst/>
          </a:prstGeom>
          <a:ln w="0">
            <a:noFill/>
          </a:ln>
        </p:spPr>
      </p:pic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Behavior parameters setu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2333520"/>
            <a:ext cx="1276200" cy="1144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876920" y="219240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startle response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lly %SLC is reliable even if there are subsequent tracking err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438280" y="2362320"/>
            <a:ext cx="246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667320" cy="2571480"/>
          </a:xfrm>
          <a:prstGeom prst="rect">
            <a:avLst/>
          </a:prstGeom>
          <a:ln w="0">
            <a:noFill/>
          </a:ln>
        </p:spPr>
      </p:pic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Behavior parameters setu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143000" y="2495520"/>
            <a:ext cx="1276200" cy="1144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876920" y="2338560"/>
            <a:ext cx="41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ually leave checked to exclude larvae already moving before the stimul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ccasionally for startle responses this can be unchecked - for example if you don't care about movement initiation frequency, just directiona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38280" y="2523960"/>
            <a:ext cx="246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667320" cy="2571480"/>
          </a:xfrm>
          <a:prstGeom prst="rect">
            <a:avLst/>
          </a:prstGeom>
          <a:ln w="0">
            <a:noFill/>
          </a:ln>
        </p:spPr>
      </p:pic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Behavior parameters setu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143000" y="2666880"/>
            <a:ext cx="1276200" cy="1144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876920" y="252900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rvae that aren't swimming, but are floating forward are usually exclud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usually makes no diffe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438280" y="2695680"/>
            <a:ext cx="246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667320" cy="257148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Behavior parameters setu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143000" y="2816280"/>
            <a:ext cx="1276200" cy="11412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876920" y="2678040"/>
            <a:ext cx="4114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consider it an SLC response if it has high performance kinemat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can be useful if you don't know when the stimulus arrives - use kinematics to identify the SLC ev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438280" y="2844720"/>
            <a:ext cx="246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667320" cy="257148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tchan</a:t>
            </a:r>
            <a:br>
              <a:rPr sz="1800"/>
            </a:b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Behavior parameters setu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123920" y="2978280"/>
            <a:ext cx="1276560" cy="11412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876920" y="267804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ost reliable way to identify SLC responses - they are initiated in a very narrow time window (specified below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419200" y="3006720"/>
            <a:ext cx="246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b</cp:lastModifiedBy>
  <dcterms:modified xsi:type="dcterms:W3CDTF">2010-09-29T19:37:47Z</dcterms:modified>
  <cp:revision>143</cp:revision>
  <dc:subject/>
  <dc:title>PowerPoint Presentation</dc:title>
</cp:coreProperties>
</file>